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4D6F5-7CCE-44F0-947A-C74B2CCB6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623B-7092-468F-86B1-E7B102232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AC3E-1F0D-40CD-859B-7D67F3A83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09A4-A139-4CD7-AE4A-F9241B0E5CB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0466-5F70-431E-BB7C-4198A6C9FB2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B95C-EDBD-4DB2-A8E9-F32486BD0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8668-0CF4-4B9E-A1C7-6FBF36E9534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D565-5970-473A-8583-7B592C4B7D9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08E0-4247-4E6C-9189-DDDFD5C9535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4B18-DA35-48FC-A0BA-581034826EB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8AA2-D88A-48F6-B74F-8F57409E394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E7F7-F86B-442D-A49A-E04A0E6B05B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2213-CA4D-41C8-9E32-47E75E4D10A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AFC5-1BF7-4186-8610-94C64DCDB1F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5942-76AE-4309-9DD8-3A9C42DAB34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85733-1177-4830-8977-5DDBE6E1839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E0882-9F2D-4C0B-A041-9CE5D73B17C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4AE1-ACD4-409C-8E9A-14A9830D617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6C97-30FF-4B42-B9CD-CE8BC32AC68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25C4-A11C-4AE8-9F97-3FFA6F36744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4095-9577-4A1B-A849-ECBB2F98EA4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1653-4E02-42CE-8C34-14AFDB36FEC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0C5F-BE6F-4736-8F29-242D81326CF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A648-A3E0-4EC8-A2C9-89DAF00ECF7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162F-48C6-4BD5-A080-600D22198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EE5B-BAF2-4557-88F9-942BE9E2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DE21-31D7-40AB-ABFB-2DCD9BE1D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A44F-8664-4CB5-BFE3-6541D1CB1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479-446C-468E-A5C8-B22DF4CA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E2F9-3E1A-4ABE-9AE5-032C5AD4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D18A-817B-4757-ABAB-0DAE2C8B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9FD7-BED9-4B6E-8025-9F886084F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F73-1169-4606-8770-9E27FF2E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2BD8-9CA3-4863-B24C-E8758F27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39CF-581E-4F40-991F-F1EF00EB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C307-8A7A-43A1-B0FE-20484536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BC43-C224-43A0-9CA5-738FAF14F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7360" y="2958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Arial"/>
              </a:rPr>
              <a:t>ГЛОМЕРУЛОПАТИЈ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86200"/>
            <a:ext cx="640080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0000"/>
                </a:solidFill>
                <a:latin typeface="Arial"/>
              </a:rPr>
              <a:t>Проф. др Ана Вуј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657600" y="274680"/>
            <a:ext cx="169560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ја је трећи кардинални знак АПСГН и евидентирана је код 50-90% деце хоспитализоване због ов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вна енцефалопатија је виђена у приближно 5% хоспитализоване деце и представља најозбиљнију рану комликацију ове боле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и пацијенти имају тешку хипертензију (200/120 mмHg) удружену са знацима дисфункције ЦНС-а (главобоља, повраћање, сензорна депресија, конфузија, визуелни поремећаји, афазија, губитак памћења,конвулзије, кома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тензивна енцефалопатија се виђе и код пацијената без или са минималним едемом и минималним уринарним абнормалностима</a:t>
            </a: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8760" y="1268280"/>
            <a:ext cx="846432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Циркулаторна конгестија је уочљива код већине хоспитализоване деце, али је одговорна само за врло ране симптоме: диспнеја, ортопнеја, кашаљ; аускултацијом плућа чују се инспираторо-експираторни пуко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Понекад је једини знак циркулаторне конгестије увећана срчана сен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а тз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телерадиографији, мада је с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ча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на инсуфицијенција ретка појава код пацијената са иначе здравим кардиоваскуларним системом; срчана радња може бити тахикардична или брадикардич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Бледило се обично јавља на почетку болести и не може се потпуно објаснити анем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 –налаз  у ури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атурија је најчешћа уринарна абнормалност при чему се у 60-85% случајева деце хоспитализоване због (АПСГН) налазе еритроцитни цилиндри као доказ гломеруларне ле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инурија  не прелази 2 g/m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/дан; само 2-5% деце са АПСГН има протеинурију нефротског тип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ецифична тежина урина је обично повишена, а способност ацидификације очув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ијагноза-докази стрептококне инфекциј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Bris guše i kože mogu, a ne moraju biti pozitivni kod APS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 употреби су бројни лабораторијски тестови који мере титар антитела на различите стрептококне антигене (ASO, AH, Anti DNAaze B) или комбинације антигена; значајно је пратитити кретање титра после 2-3 недеље боле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ијагноза-хемолитички комлпем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За време АПСГН опада титар тоталног хемолитичког комплемента и појединих његових компонент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ђено је да концентрација</a:t>
            </a:r>
            <a:r>
              <a:rPr b="0" lang="sr-C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C3 опада код више од 90% деце када се мери у прве две недеље болести, док је ниво C4 често нормала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иво C5 и пропердина такође опа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иво комплемента се у целини враћа на нормалу за 6-8 недеља од почетка болести</a:t>
            </a:r>
            <a:r>
              <a:rPr b="0" lang="sr-CS" sz="26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8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Дијагноза-докази бубрежне инсуфицијенције</a:t>
            </a:r>
            <a:r>
              <a:rPr b="1" i="1" lang="sr-CS" sz="3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764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ње серумске концентрације креатинина и азотних материја је умерено, мада неки пацијенти могу имати тешку азотем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ектролитни профил  је обично нормалан;  хиперкалемија и метаболичка ацидоза су присутне само код пацијената са значајно смањеном функцијом бубре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пацијената са клиничком сликом Нефротског синдрома може бити снижен укупни серумски 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200" indent="-520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лага анемија (нормоцитна, нормохромна) је честа у раној фази АПСГН при чему њен степен одговара степену експанзије екстрацелуларног волу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енална ултрасонографија је обично нормална или показује благо билатерално увећање бубрега са порастом ехогенос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адиографија срца и плућа показује увећану срчану сенку и централну венску конгестиј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Ренална биопсија је индикована код пацијената чија је клиничка слика, лабораторијски налази и ток болести атипичан; хистолошки налаз се заснива на налазу светлосне, имунофлуоресцентне и електронске микроскопи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-патохистолошки на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осматрано светлосним микроскопом гломеруларне промене су генерализоване и дифузне; гломерулска петља је увећана и проширена са умерено повећаном пролиферацијом мезангијалних и епителних ћелија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д особа са најтежим обликом болести гломерули изгледају бескрвно јер едем капиларног зида омета перфузију гломеру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з претходног можемо закључити да постоји директна корелација између тежине хистолошких промена и клиничких манифестација болести у акутној фази АПСГ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агноза-патохистолошки нала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ада се исечак бубрежног ткива особе оболеле од АПСГН, добијен биопсијом, анализира имунофлоресцентним микроскопом-налаз су гранулирани депозити</a:t>
            </a:r>
            <a:r>
              <a:rPr b="0" lang="sr-CS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IgG и C3; ређе се у овим депозитима налазе IgM, IgA, C4, проперди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Електронском микроскопијом  бубрежног ткива код пацијената са АПСГН виде се субепителни густи депозити попут грбе или брежуљ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Диференцијална дија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251240"/>
        </p:xfrm>
        <a:graphic>
          <a:graphicData uri="http://schemas.openxmlformats.org/drawingml/2006/table">
            <a:tbl>
              <a:tblPr/>
              <a:tblGrid>
                <a:gridCol w="4186080"/>
                <a:gridCol w="4043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инфективни гломерулно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тстрептококни и после др. бактеријск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вирус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паразитарних инфек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-</a:t>
                      </a: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удружени гломерулонефрити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noch-Shonlein purpura (HSP)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уг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A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и 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erg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роничн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тали (мање чес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нт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милијарни 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пидно прогресивни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E 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2860200" y="5004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08000" y="2871000"/>
            <a:ext cx="870588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063800" y="2852640"/>
            <a:ext cx="6748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ТСТРЕПТОКОКНЕ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КВ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ЛОМЕРУЛОНЕФРИТИ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ада се испоље симптоми  АПСГН лезија гломерула се већ догодила и процес  излечења је почео. То значи да је прекасно за примену специфичне терапије против узрочника нефритиса. Супротно овоме одговарајућа терапија која је потпорна и директно усмерена на превенцију комликација  може значајно утицати на морбидитет и рани морталите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Хоспитализација је индикована код деце са значајном хипертензијом или комбинацијом олигурије, генерализованих едема и повишене концентрације серумског креатинина или калијум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1" lang="sr-C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ешка хипертензија удружена са знацима централне дисфункције захтева хитну примену медикамената као што су: лабеталол</a:t>
            </a:r>
            <a:r>
              <a:rPr b="0" lang="sr-CS" sz="25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(0,5-2mg/kg/h iv), диазоxид или нитропрусид (0,5-2mcg/kg/min iv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Тешка хипертензија без енцефалопатије се лечи најчешће применом вазодилататора као што су хидралазин или нифедипи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Блага или умерена хипертензија не захтева хитну примену терапије која подразумева мировање, рестрикцију уноса течности и ређе примену претходно наведених лекова (фуросемид, хидралазин); ACE инхибитори могу довести до хиперкалемије и обично нису лекови  првог реда код АПСГ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624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Едем и циркулаторна конгестија као последица олигурије захтевају рестрикцију уноса течности тако да се надокнађују само тзв. “невидљиви губици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иуретици примењени пер ос скраћују дужину хоспитализације едематозне деце, а код теже конгестије се дају парентерално (фуросемид 2mg/kg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тероидна терапија је индикована код пацијената са тешким обликом и рапидно-прогресивним G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еницилин се може применити да не би дошло до контактне инфекције са нефритогеним стрептококом мада у већини случајева ови контакти не доводе до АГН; ова терапија не утиче на ток болести, али може изменити имунолошки одгово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Узимањем култура од најближих чланова породице могу се открити пацијенти са асимптоматским обликом АПСГ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ијета и физичка активно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Неслана, ниско-протеинска дијета се прописује у акутној фази болести када су присутни едеми и хипертензи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граничен унос течности и соли се препоручује код деце  која имају било олигурију или еде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Ограничена физичка активност је индикована, у раној фази болести, код пацијената са хипертензијом и/или макрохематуријо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Дуже мировање не утиче нити на ток болести ни на дугорочну прогнозу, па се не препоручу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онсулта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нсултација педијатра-нефролога је неопходна када су присутни један или више од доле наведених пробл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шка хипертен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шка олиг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енерализовани ед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фротска протеин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зот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курентна макрохемат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зистирање ниског нивоа C3 (дуже од 8-10 недељ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типичан почетак болести (без латентног педиода или доказа стрептоконе инфе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онсулта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Изостанак очекиване резолуције клиничких знакова АПСГН такође захтева консултацију педијатра-нефролог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акрохематурије унутар првих 10-14 да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Микрохематурије у току годину да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Едема за 2 недељ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Протеинурије (&gt;50</a:t>
            </a:r>
            <a:r>
              <a:rPr b="0" lang="sr-Latn-CS" sz="2500" spc="-1" strike="noStrike">
                <a:solidFill>
                  <a:srgbClr val="000000"/>
                </a:solidFill>
                <a:latin typeface="Arial"/>
              </a:rPr>
              <a:t>mg/dl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) за 6 месец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Азотемије за недeљу да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Хипертeнзије за 6 нeдeлј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огн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оначни исход код особа оболелих од АПСГН зависи у великој мери од тежине иницијалног оштећења гломерул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амо код неколицине хоспитализованих пацијената је иницијално оштећење тако тешко да или перзистира бубрежна инсуфицијенција или прогредира у бубрежну инсуфицијенцију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Код већине оболелих долази до комплетне хистолошке регресије болести и коначан исход је доба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</a:rPr>
              <a:t>Секундарне епизоде АПСГН су ретка појава, мада се клиничке манифестације болести могу јавити после прва 3 месец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Нефротски 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Times New Roman"/>
              </a:rPr>
              <a:t>Нефротски 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Нефротски синдром у дец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је клиничко стање које карактериш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масивна протеинуриј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хипопротеинемиј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хиперлипидемија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еде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Дефиниц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утни постстрептококни гломерулонегритис (АПСГН)  је акутно, имунолошким механизмима изазвано запаљење бубрега, које настаје, секундарно, као последица инфекције гуше или коже нефритогеним типовима β хемолитичког стреотокока групе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АПСГН)  је најшешће несупуративно обољење бубрега у деце при чему велики број оболелих особа има благи или асимптоматски облик болести (однос броја асимптоматских према броју симптоматских пацијената варира од 2:1 до 3: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ајчешћи синоними за нефротски синдром у деце су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«Липоидна нефроза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Болест епителних ћелиј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Кортикостероид сензитиван нефротски синдр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«Nil Disease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диопатски нефротски синдро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inimal Changes Nephrotic Syndrome (MC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Учестал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MCNS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је најчеши облик нефротског синдрома у деце и јавља се у узрасту о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16 месеци до 16 година, улавном до шест година. У овој популацији учесталост се креће и до 90%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ачни подаци о обољевању у нашој землји не посто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Географска распрострањеност није једн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CNS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ије наследно обољење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али 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запажено да се фамилијарни случајеви јављају чешћ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ешће оболјевају дечаци (2: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836280"/>
            <a:ext cx="8001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атогенез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није добро разјашњена још увек, али се сматра да занчајну улогу имају поремећаји функције Т лимфоцита или/и моноцита који стварају цитокине и неке друге факторе васкуларне пермеабилности, који доводе до повећане пропустљивости</a:t>
            </a:r>
            <a:r>
              <a:rPr b="0" lang="sr-C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GMB</a:t>
            </a:r>
            <a:r>
              <a:rPr b="0" lang="sr-Latn-C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 протеинурије. Заправо долази до губитка прстастих наставака епителијалних ћелија (подоцита) што резултира протеинуријом и следственом хипопротеинемиј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ремећај функције</a:t>
            </a:r>
            <a:r>
              <a:rPr b="0" lang="sr-CS" sz="3200" spc="-1" strike="noStrike">
                <a:solidFill>
                  <a:srgbClr val="009999"/>
                </a:solidFill>
                <a:latin typeface="Times New Roman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T Ly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/или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Mo    →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актори васкуларне пермеабилности -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</a:rPr>
              <a:t>цитокини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пустљив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GMB +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убитак прстастих наставака подоцита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теинур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ипопротеин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1763640" y="2206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Garamond"/>
              </a:rPr>
              <a:t>Патоген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Механизам настанка едема у нефротском синдрому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је битно другачији него у нефритичном синдрому. Повећање пропустљивост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GBM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за протеине доводи до масивне протеинурије и консекутивне хипопротеинемије. Ово има за последицу снижење онкотског притиска, што доводи до преласка течности из васкуларног у интерстицијски простор, тј. до стварања едема. Због тим процесом изазване хиповолемије активира се ренин-ангиотензин-алдостерон систем, а хиповолемија и хемоконцентрација стимулишу лучење антидиуретског хормона. Удружени ефекти активације хормонског система имају за последицу ретенцију воде и натријума, који се због сниженог онкотског притиска задржавају у интерстицијуму и тако се затвара цирцулус витиосус у механизму настанка едема у нефротском синдр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еханизам настанка едема у нефротском синдрому: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▪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пустљивост</a:t>
            </a:r>
            <a:r>
              <a:rPr b="0" lang="sr-C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GMB</a:t>
            </a:r>
            <a:r>
              <a:rPr b="0" lang="sr-Latn-CS" sz="32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теинурија →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хипопротеинем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нкотског притиска преласка течности из васкуларног у интерстицијски простор →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ед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Хиповолемије →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RA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+ Хемоконцентрациј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→ AD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ледица: ретенција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O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Na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↓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онкотског прити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sr-CS" sz="3600" spc="-1" strike="noStrike">
                <a:solidFill>
                  <a:srgbClr val="000000"/>
                </a:solidFill>
                <a:latin typeface="Times New Roman"/>
              </a:rPr>
              <a:t>ед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sr-Latn-CS" sz="4000" spc="-1" strike="noStrike">
                <a:solidFill>
                  <a:srgbClr val="000000"/>
                </a:solidFill>
                <a:latin typeface="Times New Roman"/>
              </a:rPr>
              <a:t>circulus vitio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</a:rPr>
              <a:t>Клиничка сл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Основна клиничка манифестација јесте еде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У почетку болести настаје постепено тако да родитељи помисле да је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дете добило у тежини.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Првих дана опште стање није много поремећено тако да лекар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ако не уради анализу ури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може да помисли на алергиј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Појави едема углавном (не увек) претходи нека инфекција. Уколико се на време не препозна едем може постати јако изражен (анасарка, асцитес). Постоји универзална анасарка и изливи у абдоминалну дупљу, а много ређе (не зна се зашто) у плеуралну дупљ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</a:rPr>
              <a:t>Често имају оток лабија и скротума. Некада долази до пуцања коже и изласка едемске течности. Деца су бледа, без живости, уморна и радо сама леже у кревету. Мекане ушне шкољке и бразде на ноктима се могу запазити ако је болест дуже трајал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1" i="1" lang="sr-C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СГН може бити епидемијски, али се чешће јавља спорадично и при томе има сезонски каракте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чешћи серотипови β хемолитичког стреотокока групе А који изазивају нефритис су тип 12 када су у питању назофарингеалне инфекције и тип 49 у случају пиодерм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особа са ринофарингитом латентни период до појаве АПСГН изноди приближно 10 дана при чему је код више од 80% пацијената повишен титар антистрептолизина О у серу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особа са променама на кожи теже је утврдити латентни период, а пораст АСО титра је нађен у само 50% случаје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Олигурија је изражена у скоро свих болесника у почетку болести, па када се изгуби може се видети да су болесници потхрањени. Клиничка запажања казују да ови болесници имају повећану склоност ка</a:t>
            </a:r>
            <a:r>
              <a:rPr b="0" lang="sr-R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тромбоемболијама, најчешће у реналним и плућним венама. Због ретенције воде и соли деца мога добити на тежини и до 20%. Болесници су склони инфекцијама (Грам позитивне и Грам негативне бактерије); лече се антибиотицима широког спектра и Пеницилином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61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Лабораторијске анализ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Најзначајнији поремећај који постоји у ових болесника је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</a:rPr>
              <a:t>протеинурија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, која је у исто време и дијагностичка вредност. Протеинурија је «нефротска» ако је већа од 50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mg/kg/24h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или пак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40mg/h/m²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(у ноћном урину).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</a:rPr>
              <a:t>Хипопротеинемија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 је изражена јер су обично серумски протеини веома снижени, мањи од 50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g/l,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а један број болесника има и мању вредност од 40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g/l.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Макрохематурија је изузетна, а микрохематурија може да се нађе у врло малом броју болесника са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MCNS.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</a:rPr>
              <a:t>Хиперлипидемија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 је један од главних знакова за нефротски синдром. Ниво укупног с. холестерола и фосфолипида је повишен. Триглицериди могу бити повишени, али не увек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. LDL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је повишен у почетку болести, а за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HDL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су подељена мишлјења. У </a:t>
            </a:r>
            <a:r>
              <a:rPr b="1" lang="sr-CS" sz="2300" spc="-1" strike="noStrike">
                <a:solidFill>
                  <a:srgbClr val="000000"/>
                </a:solidFill>
                <a:latin typeface="Times New Roman"/>
              </a:rPr>
              <a:t>седименту урина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 у едемској и олигуричној фази могу се запазити бројне масне капи, овална масна тела, дегенерисане тубулске ћелије и бројни хијалини и хијалино-масни цилиндри. Јачина гломерулске филтрације у већини болесника је нормална, комплемент је у референтним вредностима. </a:t>
            </a:r>
            <a:r>
              <a:rPr b="0" lang="sr-Latn-CS" sz="23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</a:rPr>
              <a:t>је повишена (троцифрена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333000"/>
            <a:ext cx="29624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Лабораторијске анализ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Протеинуриј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&gt; од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50 mg/kg/24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Хипопротеинемија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&lt; од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40 g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Хиперлипидемиј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. холестерола и фосфолипи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↑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риглицериди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- LDL i HD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едименту урина: масне капи, овална масна тела, дегенерисане тубулске ћелије, бројни хијалини и хијалино-масни цилиндр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▪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SE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троцифрена</a:t>
            </a:r>
            <a:r>
              <a:rPr b="0" lang="sr-CS" sz="28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</a:rPr>
              <a:t>Лечење: У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вој епизоди нефротског синдрома потребна је хоспитализација детета, не само ради постављања дијагнозе и лечења, већ и због информисања родитеља о обољењ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Лечење је компликовано, а терапија се може поделити на симптоматску и специфичну (кортикостероиди, имуносупресиви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жељно је пре започињања било које терапије искључити секундарни нефротски синдром, као и друге облике овог синдрома до којих углавном долазимо биопсијом бубре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i="1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имптоматска терапија: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фази едема треба ограничити унос течности и дати неслану храну са оптималним уносом проте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колико су едеми јаче изражени може се дат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фуросемид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9999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0,5-3 mg/kg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у про дози (може се поновити два пута за 24 сата)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Опрез- хиповолемијски шо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случају изражених едема дати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хумане албумин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0,5-1 g/kg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инфузији која траје око 1-2 сата и на крају фуросеми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ктивност болесника се ограничава у едемској фази (дете ће само да легн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схрана углавном неслана, касније се дозвољава мањи унос с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ко болест дуго траје може се дaт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it. D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Ca</a:t>
            </a:r>
            <a:r>
              <a:rPr b="0" lang="sr-Latn-CS" sz="2400" spc="-1" strike="noStrike">
                <a:solidFill>
                  <a:srgbClr val="0099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д јако изражене хиперлипидемије могу се дати статини (нема студија у дец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пецифична т</a:t>
            </a:r>
            <a:r>
              <a:rPr b="1" i="1" lang="sr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ерапија</a:t>
            </a:r>
            <a:r>
              <a:rPr b="1" i="1" lang="sr-Latn-CS" sz="32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кортикостерои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имуносупреси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а њом се започиње када се постави дијагноза нефротског синдрома, јер се зна да деца у узрасту од 2-6 година најчешће имају хистолошки минималне промене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MCNS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. Наведена специфична терапија се обично започиње давањем Пронизона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еднисо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) и она има две фаз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онизо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os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континуира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4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едељ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јчешћ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в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ут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нев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виш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/m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²/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затим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елаз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вак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руг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ан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алтернатив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оз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мањују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олак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д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искључивањ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Смањивањ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лек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ј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остепе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едељно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2,5-5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,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зависи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од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реаговањ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н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пронизонску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терапију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болесника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9280" y="1600200"/>
            <a:ext cx="79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Рецидив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се такође лечи Пронизоном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6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/m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/2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ли мањом дозом 4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sr-Latn-C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до губитка протеинурије и још 3 дана, а затим се прелази на алтернативни начин лечења још 4 недеље, са сма</a:t>
            </a:r>
            <a:r>
              <a:rPr b="0" lang="sr-RS" sz="3200" spc="-1" strike="noStrike">
                <a:solidFill>
                  <a:srgbClr val="000000"/>
                </a:solidFill>
                <a:latin typeface="Times New Roman"/>
              </a:rPr>
              <a:t>њ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ењењем дозе постепено, до искључењ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татистички подац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 постоји разлика међу расама у испољавању  АПСГН; ово важи за све етничке и културн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ест је чешћа код особа мушког пола у свим регионима света и то тако да се однос мушког према женском полу креће од 1,7 до 2 : 1; разлог за ову предоминацију није позн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СГН је евидентиран код старца од 90 година и одојчета од годину дана, али је највећа учесталост обољевања код деце старости 4-12 година са пиком у узрасту 5-6 го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Етиолог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8640" indent="-548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За доказивање АПСГН неопходно је да постоје имуни комплекси, састављени од специфичних антитела усмерених против стрептококних антигена, који су локализовани на зиду гломеруларних капилара и који доводе до активације система комплемента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640" indent="-5486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јмање за два антигена изолована из нефритогених типова стрептокока се верује да су у стању да иницирају имунолошки одговор. То су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1. Зимоген-прекурсор егзотоxина Б (SPEB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8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2. Глицералдехид фосфат дехидрогеназа (GAPD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атофизиолог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Клиничке манифестације  су директно или индиректно резултат гломеруларног инфламаторног одговора чији степен дефинише тежину симптома и знакова болест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Запаљење гломерула (ћелијска пролиферација и едем) смањује гломеруларну филтрацију; редукција филтрације и нормалне тубуларне функције води до повећане реапсорпције воде и соли, што резултира у олигурији и појави едем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овећање волумена екстрацелуларне течности доводи до повећања системског притиска, што може бити једно од објашњења највероватније мултифакторијално узроковане хипертензиј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Гломерулопат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500040" y="1428840"/>
          <a:ext cx="8286840" cy="4211640"/>
        </p:xfrm>
        <a:graphic>
          <a:graphicData uri="http://schemas.openxmlformats.org/drawingml/2006/table">
            <a:tbl>
              <a:tblPr/>
              <a:tblGrid>
                <a:gridCol w="4143240"/>
                <a:gridCol w="4143600"/>
              </a:tblGrid>
              <a:tr h="106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итични синдр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фротски синдром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крохематурија гломерулског порекла (цилндри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ивна протеинуриј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рена протеинурија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опротеинемиј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лигурија (снижена гломерулска филтрација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перлипидемиј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 и Хипертензија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ем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6668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Клиничка сли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атентни период од почетка стрептококне инфекције до развоја клиничке слике АПСГН се креће од 7 до 21 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крохематурија и/или едем представљају најчешћу клиничку манифестацију болести; настају нагло и могу бити удружени са различитим степеном слабости, летаргијом, анорексијом, главобољом и абдоминалним бо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дем се налази у приближно 85% пацијената; обично настаје изненада и прво захвата периорбитални преде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крохематурија (урин се описује као чађав, боје кока-коле или рђе) је почетни симптом код 30-50% деце хоспитализоване због АПСГ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8T22:08:22Z</dcterms:created>
  <dc:creator>DR DJOLE</dc:creator>
  <dc:description/>
  <dc:language>en-US</dc:language>
  <cp:lastModifiedBy>User</cp:lastModifiedBy>
  <dcterms:modified xsi:type="dcterms:W3CDTF">2014-08-12T12:46:58Z</dcterms:modified>
  <cp:revision>216</cp:revision>
  <dc:subject/>
  <dc:title>Slide 1</dc:title>
</cp:coreProperties>
</file>