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arbrake.wav" ContentType="audio/x-wav"/>
  <Override PartName="/ppt/media/camera.wav" ContentType="audio/x-wav"/>
  <Override PartName="/ppt/media/whoosh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1C0B-979B-40B3-AEB1-F27C10535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01F-5F5F-4FDD-BA29-553210B2D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5D7-5438-4EBF-9DD3-FB1D2BD0A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BF1-8E56-40B2-A494-ECC82F2BA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8F2D-AEC9-45A3-801F-91100B12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0178-0D75-442B-81EC-5F15AAE4D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573E-1540-4B41-931F-6ED1A0F1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C3B3-77CD-4498-883B-4AEFDCE0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BE88-DD0F-4DD5-8BBC-328B49BB4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2310-36CA-4EA7-BD73-9F937711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6926-7CE1-4162-89A1-8EAC9424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1476-8251-4822-8E03-7BB312BC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8D5C-6099-4B01-AC05-1976EDEF6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750760"/>
            <a:ext cx="842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56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а опоравка – полиур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еколико дан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апетит се поправља, али болесник “мршави” због појачане диурез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нагли пораст осмотски изазване диурезе јавља се као последица бржег опоравка гломерулске од тубулских функци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бољшање општег стања праћено је нормализацијом биохемијских параметар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Лабораторијске анализ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урина – седимент, уринокултура, биохем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реглед крв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лектролити серума (K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Cа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ацидобазно стање (pH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уреа и креатинин 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Мерење диурезе (катетер у м. бешици првих 48 сат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Диференцијална дијагноза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1981080"/>
          <a:ext cx="7924680" cy="4141800"/>
        </p:xfrm>
        <a:graphic>
          <a:graphicData uri="http://schemas.openxmlformats.org/drawingml/2006/table">
            <a:tbl>
              <a:tblPr/>
              <a:tblGrid>
                <a:gridCol w="4000680"/>
                <a:gridCol w="2232000"/>
                <a:gridCol w="1692000"/>
              </a:tblGrid>
              <a:tr h="49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ДЕКСИ АБ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НАЛ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МОЛАЛНОСТ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ЕА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АТИНИН урин/плаз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 у УРИНU (mmol/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Na   (uNa/pNa) :  (uCr/pCr) x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RI    uNa : (uCr/pC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l-SI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споставити нормалну перфузију бубрега и диурезу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0-30ml/kg 0,9%NaCl за 30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1-5</a:t>
            </a:r>
            <a:r>
              <a:rPr b="0" lang="sl-SI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/kg/min Допами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2-5mg/kг Фуросеми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диреза не наступи за 2-4h сматра се да је дошло до структурних оштећења бубре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Терапиј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граничити унос течности на 300-350m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 или 15ml/kg плус екстра губитци (повраћање, пролив, знојењ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електролит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7,5mmol/l : 0,2-05ml/kg 10% Ca-глуконата 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 или инфузија глукозе са инсулин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K &gt; 6,5mmol/l : 0,5g/kg смоле за размену катјонa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орално у 100ml 10% глукоз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Ca &lt; 2mmol/kg : 0,5ml/kg Ca-глуконат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Кориговати ацидобазни дисбалан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- pH &lt; 7-7,2 : 2-3ml/kg NaHCO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Обезбедити одговарајући калоријски унос давањем хипертоног раствора глукозе (400Kcal/m</a:t>
            </a:r>
            <a:r>
              <a:rPr b="1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/24h) чиме се смањује катаболизам, азотемија и хиперкалијем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Индикације за дијализ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нурија која траје дуже од 24-48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горшање “уремичног ст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K &gt; 7,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Na &lt; 1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pH &lt; 7,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реа &gt; 4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mmol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</a:rPr>
              <a:t>Акутна бубрежна инсуфицијенциј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920" y="198900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АБИ је клиничко стање које карактерише нагло смањење функције бубрега у тој мери да не може да се одржи водено електролитна хомеостаза и излуче продукти азотног метаболизм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олигоанурија: диуреза мања од 200-250 ml/м</a:t>
            </a:r>
            <a:r>
              <a:rPr b="0" lang="sl-SI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/24h или мања од 10 ml/h код малог детета или мања од 0,5-1ml/kg/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повећање концентрације урее и креатинина у серуму за 2 до 2,5 пута у односу на референтне вредности за узраст дет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Подела АБИ по етиопатогене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ре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ренална хипоперфузија и смањење ЈГФ (реверзибилно, без структурног оштеће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о исхемија предуго траје долази до органских промена на тубулима и развоја акутне тубуларне некр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Times New Roman"/>
              </a:rPr>
              <a:t>Постренална АБИ – 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настаје због опструкције уринарних пу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ре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Хемодинамск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хеморагиј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тешка дехидрација (повраћање и про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шок (септички, постоперат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губитак у “трећи простор” (асцитес, плеурални излив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Срчана инсуфицијен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оксични факт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ндогени (миоглобин, хемоглобин, крис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- егзогени (антибиотици, тешки метал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Постисхемична А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кутна тубулска нефроз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Гломеруло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АПГН, рапидно прогресивн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Васкулит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ХУС, ДИК, тромбозе и емболиј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Интерстицијски нефритис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инфекције, лекови)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Акутизација ХБИ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(ЈГФ пада за 15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Узроци пост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конгениталне (VP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стече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алкулоз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Тумор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екстраренал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Times New Roman"/>
              </a:rPr>
              <a:t>Клиничка слика пререналне АБ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Зависи од узро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У деце и одојчади преренална АБИ најчешће настаје збод тешке дехидра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сува кожа без тургора и еластицитета, суве слузокоже, упале очне јабучице)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 коју прате симптоми циркулаторне инсуфицијенције (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бледило, хладни екстремитети, хипотензија, слаб и убрзан пул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44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Класичан клинички ток АБИ пролази кроз три јасно дефинисана клиничка стадијума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Иницијална фаз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траје неколио дана до две недељ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болесник често није ни свестан обољења, може да има изражен “централни” осећај жеђ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</a:rPr>
              <a:t>- јачина диурезе и осмоларност урина су смањени (Uosm = 350mosm/k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Клиничка слика реналне АБ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Фазa одржавaњ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траје нeколико сати до једнe nедeљ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знаци прогrесивне азотемије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бледило, малaксалост, отoци л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ца, aцидотично дисање, губитак aпети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а, повраћaње, штуцање, грче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појавa компликација: 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дeм плућа, енцeфалопатија, дигестивна крва</a:t>
            </a:r>
            <a:r>
              <a:rPr b="1" lang="sr-RS" sz="26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ења, инфекциј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олигоанурија уз пораст осмoларности урина Uosm = 1000mosm/k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- днев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и пораст aз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eм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јe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 eлeк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литни</a:t>
            </a:r>
            <a:r>
              <a:rPr b="0" lang="sl-SI" sz="2600" spc="-1" strike="noStrike">
                <a:solidFill>
                  <a:srgbClr val="000000"/>
                </a:solidFill>
                <a:latin typeface="Times New Roman"/>
              </a:rPr>
              <a:t>х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</a:rPr>
              <a:t>поремећај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6T20:49:49Z</dcterms:created>
  <dc:creator>Impuls</dc:creator>
  <dc:description/>
  <dc:language>en-US</dc:language>
  <cp:lastModifiedBy>User</cp:lastModifiedBy>
  <dcterms:modified xsi:type="dcterms:W3CDTF">2014-08-12T13:14:09Z</dcterms:modified>
  <cp:revision>25</cp:revision>
  <dc:subject/>
  <dc:title>Akutna bubrežna insuficijencija</dc:title>
</cp:coreProperties>
</file>