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B072-49C2-4591-B611-B3E84731E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8B65F-F9B6-40B1-806B-B544D0AF5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C8049-05C2-417F-8095-CF40BFA58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B976-0168-4F3E-9674-15D6BF77F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6849-ADB2-4F6A-A4B9-5240842F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442F-6142-4ACE-B5DA-E86802428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7395-3EF6-48E8-93B4-11CC7AA19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578D-CDDE-40B6-BF87-F2EAF6BF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CB74-D816-435A-877D-24E56927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4EC1-865D-473F-B93F-4871187E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4B27-127B-4905-90E9-FC14D9D4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5189-B01E-4D34-B2C7-326EDB32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BF9-7378-4B11-BD0C-86C19C9F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320D-AD59-400B-BFBF-323D6134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9B36-E21E-4E90-9DF2-14178E63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9838-64FD-4F64-98E5-FD09A46FE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3160" y="2933280"/>
            <a:ext cx="7854840" cy="1808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611280" y="3360600"/>
            <a:ext cx="7993080" cy="24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СПИТИВАЊЕ ФУНКЦИЈЕ БУБРЕ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ф.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др Ана Вуји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708360" y="274680"/>
            <a:ext cx="1695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КУНДРАНЕ ГЛОМЕРУЛСКЕ БОЛЕСТ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итиси у току хроничних инфек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»Good Pasture«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Гломерулопат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00040" y="1428840"/>
          <a:ext cx="8286840" cy="4116240"/>
        </p:xfrm>
        <a:graphic>
          <a:graphicData uri="http://schemas.openxmlformats.org/drawingml/2006/table">
            <a:tbl>
              <a:tblPr/>
              <a:tblGrid>
                <a:gridCol w="4143240"/>
                <a:gridCol w="4143600"/>
              </a:tblGrid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чни синдро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отски синдром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рохематурија гломерулског порекла (цилндри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ивна протеинур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а протеинурија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опротеинем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гурија ( снижена гломерулска филтрација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липидем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 и Хипертенз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МУНОГЛОБУЛИН А НЕФРОПАТ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оглобулин А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IgA)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патије обухватају групу гломерулских болести које имају заједничку имунско-морфолошку карактеристику-налаз дифузно распоређених депозит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прегледу помоћ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микроско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 код деце и код одраслих много су чешће и клинички значајније примарне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патије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пат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IgAN)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gerova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Берже) болест-  водећи узрок терминалне инсуфицијенције бубрега код одраслих са примарним гломерулопатија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итис у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enoch-S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ö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lein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oј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рпури</a:t>
            </a:r>
            <a:r>
              <a:rPr b="0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HS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4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912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ичности измеђ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HS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 бројне и велике што оправдава схватање да су то врло сродна станја, с тим шт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 моносимптоматски, 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P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ски облик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акутна болест са непрогресивним гломерулским лез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хронична болест споре прогресије која може да еволуише у хроничну инсуфицијенцију бубрег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H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АТОГЕНЕ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настанак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 бити одговорно више механизама тако да код исте особе може, у исто или различито време, да буде активирано више процеса који воде настанку боле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и они воде дефектној контроли  продукциј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 резултира у стварању ненормално гликозилисаног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1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 се потом таложи у гломерул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интеракцији 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1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зангијумске ћелије секретују цитокине који изазивају инфламациј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PAF, IL-1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IL-b, TNF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MIF) и протеине матри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зија мезангијума у даљој еволуцији, води ка резолуцији или прогресивној склерози што зависи од тога да ли је дошло до секундарног оштећења подо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ипична презентац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макроскопса хематурија, истовремено или 1-2 дана по почетку инфекције горњих дисајних пут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атурија траје 1-15 дана и праћена је тупим болом у леђ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ој рецидива и дужина интервала између њих су варијабилни, али се по правилу проређују са узра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деце 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P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и налаз ће бити изолована микроскопска хематурија која се, код 80% оболелих, јавља у року од 4 недеље од почетка бол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ицијана макрохематурија може да траје неколико дана до неколико недеља и обично је удружена са јаком, али пролазном протеинур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тежа је клиничка презентација под сликом нефритичко-нефротског синдр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ЈАГНОЗА И ПРО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ећана концентрација IgA у серуму налази се и у IgAN и у HSN код 30-70% оболелих и то само у акутној фази и није од значаја за дијагн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к 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 се код 70% оболелих карактерише рецидивима макроскопске хемету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линички налази који код деце указују на лошу прогнозу су: нефротски синдром, перзистентна протеинурија јача од 1г/24h и 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ДИФЕРЕНЦИЈАЛНА ДИЈАГНОЗА ХЕМАТУРИЈЕ КОД ДЕ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B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налази код 20-50% болесника 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ле 20-30 година надз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 узрок терминалне инсуфицијенције бубрега код 5% деце у Европи.  Забрињавајуће је да функција бубрега може да се погорша и после комплетног клиничког опоравка који је уследио 2 године од почетка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дашњи терапијски протоколи 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мерени су ка модулацији реакције гломерула на депоновање комплек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, s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ем да се смањи оштећ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њ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 ткива и прогресија ка склеро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удије указују да код пацијената са умереном или јаком протеинуријом, али са нормалном или благо сниженом функцијом бубрега, терапија кортикостероидима (0,5-2 године), путем смањења јачине протеинурије, превенира доцнију прогнозу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хибитор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CE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ми или у комбинацији са антагонистима рецептора ангиотензи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ју снажно оправдање у терапији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не само да утичу на хипертензију и протеинурију него успоравају еволуцију болест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SN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апија је неопходна код деце са дифузном ендо и екстракапиларном пролиферацијом и клиничком сликом нефротског или нефритичког синдрома са нарушеном функцијом бубрега (велике дозе преднизолона, циклофосфамид са или без антикоагулантних или антитромбоцитних леко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ИФЕРЕНЦИЈАЛНА ДИЈАГН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727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87280" y="1057320"/>
          <a:ext cx="7201080" cy="5400720"/>
        </p:xfrm>
        <a:graphic>
          <a:graphicData uri="http://schemas.openxmlformats.org/drawingml/2006/table">
            <a:tbl>
              <a:tblPr/>
              <a:tblGrid>
                <a:gridCol w="2781360"/>
                <a:gridCol w="2129040"/>
                <a:gridCol w="2290680"/>
              </a:tblGrid>
              <a:tr h="64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четни узра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≤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./нефрот.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зик за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B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ител. полумесе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позити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/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позит. фиб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ч компл.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S-19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≥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ећан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сок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АПСГ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кутни постстрептококни гломерулонефритис (АПСГН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кутно, имунолошким механизмима изазвано запаљење бубрега, које настаје, секундарно, као последица инфекције гуше или коже нефритогеним типовим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хемолитичког стр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окока групе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АПСГН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шешће несупуративно обољење бубрега у деце при чему велики број оболелих особа има благи или асимптоматски облик болести (однос броја асимптоматских према броју симптоматских пацијената варира од 2:1 до  3: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За доказивање АПСГН неопходно је да постоје имуни комплекси, састављени од специфичних антитела усмерених против стрептококних антигена, који су локализовани на зиду гломеруларних капилара и који доводе до активације система комплемент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јмање за два антигена изолована из нефритогених типова стрептокока се верује да су у стању да иницирају имунолошки одговор. То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. Зимоген-прекурсор егзотоxина B (SPE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. Глицералдехид фосфат дехидрогеназа (GAPD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атофизи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21844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иничке манифестације  су директно или индиректно резултат гломеруларног инфламаторног одговора чији степен дефинише тежину симптома и знакова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паљење гломерула (ћелијска пролиферација и едем) смањује гломеруларну филтрацију; редукција филтрације и нормалне тубуларне функције води до повећане реапсорпције воде и соли, што резултира у олигурији и појави ед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већање волумена екстрацелуларне течности доводи до повећања системског притиска, што може бити једно од објашњења највероватније мултифакторијално узроковане хипертен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18840" y="301320"/>
            <a:ext cx="7956360" cy="98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Латентни период од почетка стрептококне инфекције до развоја клиничке слике АПСГН се креће од 7 до 21 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акрохематурија и/или едем представљају најчешћу клиничку манифестацију болести; настају нагло и могу бити удружени са различитим степеном слабости, летаргијом, анорексијом, главобољом и абдоминалним бо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Едем се налази у приближно 85% пацијената; обично настаје изненада и прво захвата периорбитални преде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акрохематурија (урин се описује као чађав, боје кока-коле или рђе) је почетни симптом код 30-50% деце хоспитализоване због АПСГ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Хематурија је најчешћа уринарна абнормалност при чему се у 60-85% случајева деце хоспитализоване због (АПСГН) налазе еритроцитни цилиндри као доказ гломеруларне ле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отеинурија  не прелази 2g/m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/д; само 2-5% деце са АПСГН има протеинурију нефротског тип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пецифична тежина урина је обично повишена, а способност ацидификације очув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За време АПСГН опада титар тоталног хемолитичког комплемента и појединих његових компонен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ђено је да концентрација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3 опада код више од 90% деце када се мери у прве две недеље болести, док је ниво C4 често нормал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иво C5 и пропе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ина такође опа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иво комплемента се у целини враћа на нормалу за 6-8 недеља од почетка боле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000000"/>
                </a:solidFill>
                <a:latin typeface="Arial"/>
              </a:rPr>
              <a:t>Хематурија означава присуство крви у мокраћ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ПАТОХИСТ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ада се исечак бубрежног ткива особе оболеле од АПСГН, добијен биопсијом, анализира имунофлоресцентним микроскопом-налаз су гранулирани депозити</a:t>
            </a:r>
            <a:r>
              <a:rPr b="0" lang="sl-SI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gG и C3; ређе се у овим депозитима налазе IgM, IgA, C4, проперд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Електронском микроскопијом  бубрежног ткива код пацијената са АПСГН виде се субепителни густи депозити попут грбе или брежуљ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215640"/>
            <a:ext cx="85107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ференцијална 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341360"/>
          <a:ext cx="8229600" cy="4251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нфективни гломерулно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стрептококни и после др. бактеријск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вирус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паразитар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-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дружени гломерулоне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noch-Shonlein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рпура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SP)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и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(Berg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ни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и (мање че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нт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јарни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пидно прогресивн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510760" cy="749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намне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лична, породич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линички преглед  (мерење артеријског притиск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абораторијско испити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КС,, азотне материје у крви и урину, коагулациони статус, C3,C4,ANA,AS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ин, уринокул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утарњи урин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a/Cr &lt;0,57mmol/m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4h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ин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Ca&lt;4mg/kg/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хосонографија бубрега и уротра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рорадиолошко испитивање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IVP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CU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дикације за биопсију бубрег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зистентна мХ која траје дуже од једне 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зистентна мХ у комбинацији са повишеним серумским креатининином, сниженим компонентама комплемент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C3,C4)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инуријом или хипертенз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Х и бар 2 епизоде М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Х и позитивна породична анамнеза у смислу хематурије, азотемије, наглувости, бубрежне инсуфицијенције, умирања од болести буб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Х и позитивна породична анамнеза су најбитнији крутеријуми за биопсиј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и патолошки налаз с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патија и Алпортов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цу са рекурентном хематуријом треба контролисати 1-2 пута годишње, у току 8-10 година, због могућих компликациј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нална инсуфицијенциј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Cr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ру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C3, C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88600" y="2874600"/>
            <a:ext cx="6172200" cy="172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РОТЕИНУРИЈА СЕ ДЕФИНИ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ШЕ КАО ЕКСКРЕЦИЈА ПРОТЕИНА ИЗНАД ПРОСЕЧНЕ ДНЕВНЕ ЕКСКРЕЦИЈЕ КОД ДЕЦЕ ОДРЕЂЕНОГ УЗРАС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Ако се мери у мировању нормалне вредности су до 60mg/m2/24h што одговара 100mg/24h,осим код новорођенчади код којих је нормална протеинурија 150-240mg/m2/24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9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Количину и састав протеина у урину здравих особа одређују 3 проце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Гломерулска филтрација протеина плаз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тубулска реапсорпција филтрованих протеина-процесом ендоцито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екскреција тубулских протеина(»секреција« протеина)-Tamm-Horsfallov проте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684000" y="404640"/>
            <a:ext cx="792612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Г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ломерулска филтрација протеин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за</a:t>
            </a:r>
            <a:r>
              <a:rPr b="1" lang="sr-Latn-CS" sz="3200" spc="-1" strike="noStrike">
                <a:solidFill>
                  <a:srgbClr val="000000"/>
                </a:solidFill>
                <a:latin typeface="Arial"/>
                <a:ea typeface="Arial"/>
              </a:rPr>
              <a:t>виси 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О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  <a:ea typeface="Arial"/>
              </a:rPr>
              <a:t>собине протеина (молекулска маса, величина, конфигурација и електрични набој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  <a:ea typeface="Arial"/>
              </a:rPr>
              <a:t>онцентрације у плазм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  <a:ea typeface="Arial"/>
              </a:rPr>
              <a:t>труктурног и функционалног интегритета гломерулске филтрационе баријер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  <a:ea typeface="Arial"/>
              </a:rPr>
              <a:t>ритиска у гломерулима и протока крви, који одредјују величину ултрафилтра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протеини мале мол. масе (албумини,пептидни хормони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деривати Ig, бета-2 микроглобулин, лизози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позитивно наелектрисани молеку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повећање онкотског притиска у глом. капиларима или сманјење протока кроз 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040" indent="-24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4000" y="155700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кроспокска хематурија (МХ) -0,5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рви у 50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урина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идљива голим оком, урин замућен и промењене бо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црвено, розе, браон, цр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кроскопска  хематурија (мх)-3 или више Ер у видном пољу на великом увеличању микроскопа, открива се хемијским тестовима и/или микроскопским прегледом урина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рин бист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У урину здравих особа 60% чине протеини плазме (40% албумини), а око 40% су ткивни протеини (углавном Tamm-Horsfall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ротеи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ротеинурија се често открива рутинским прегледом урина код деце без клиничких симпто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Колориметријским тестом са индикатором на папиру (тест траке) се семиквантитативно процењује концентрација протеина у урин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tle 1"/>
          <p:cNvSpPr/>
          <p:nvPr/>
        </p:nvSpPr>
        <p:spPr>
          <a:xfrm>
            <a:off x="685800" y="28576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91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br>
              <a:rPr sz="3800"/>
            </a:b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ст траке</a:t>
            </a:r>
            <a:r>
              <a:rPr b="0" lang="sr-CS" sz="36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(Albustix,.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714760" y="1785960"/>
          <a:ext cx="3643200" cy="3200400"/>
        </p:xfrm>
        <a:graphic>
          <a:graphicData uri="http://schemas.openxmlformats.org/drawingml/2006/table">
            <a:tbl>
              <a:tblPr/>
              <a:tblGrid>
                <a:gridCol w="1822320"/>
                <a:gridCol w="182088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аз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ини </a:t>
                      </a: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g/dl)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гативан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аг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+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000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TextBox 5"/>
          <p:cNvSpPr/>
          <p:nvPr/>
        </p:nvSpPr>
        <p:spPr>
          <a:xfrm>
            <a:off x="642960" y="5214960"/>
            <a:ext cx="850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Т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ест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 траке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=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тетрабромо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ф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енол 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плави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к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олориметри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јски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мет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миквантитативна мет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Интензитет промена боје од жуте ка плавој означава количину протеина у ур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Сензитивност и специфичност за албумине&gt;9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ест трак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3895560" cy="72216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Arial"/>
              </a:rPr>
              <a:t>Лажно   +   налаз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86200" y="1413000"/>
            <a:ext cx="3897360" cy="7207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700" spc="-1" strike="noStrike">
                <a:solidFill>
                  <a:srgbClr val="000000"/>
                </a:solidFill>
                <a:latin typeface="Arial"/>
              </a:rPr>
              <a:t>Лажно   -   налаз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1320" y="2133720"/>
            <a:ext cx="404172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</a:rPr>
              <a:t>урин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специф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чна тежина&gt;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03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макрохематуриј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р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ба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териур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дуго држање траке у урин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ад се трака изложи млазу урина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ад су у урину присустни ф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еназоп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ридин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ск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кв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атерн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амони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м</a:t>
            </a:r>
            <a:r>
              <a:rPr b="0" lang="sr-Latn-CS" sz="2100" spc="-1" strike="noStrike">
                <a:solidFill>
                  <a:srgbClr val="000000"/>
                </a:solidFill>
                <a:latin typeface="Arial"/>
              </a:rPr>
              <a:t> састојц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3280" y="2349000"/>
            <a:ext cx="3897360" cy="20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рин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пец. теж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1.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 албумински протеини: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NMP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лобулини, мукопротеин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, Bence-Jones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ви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теи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7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скорбинска кисел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1"/>
          <p:cNvSpPr/>
          <p:nvPr/>
        </p:nvSpPr>
        <p:spPr>
          <a:xfrm>
            <a:off x="2124000" y="1628640"/>
            <a:ext cx="357120" cy="382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>
            <a:off x="6519960" y="1628640"/>
            <a:ext cx="357120" cy="382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улфосалицилна кисе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143080" y="907920"/>
          <a:ext cx="5143680" cy="4272120"/>
        </p:xfrm>
        <a:graphic>
          <a:graphicData uri="http://schemas.openxmlformats.org/drawingml/2006/table">
            <a:tbl>
              <a:tblPr/>
              <a:tblGrid>
                <a:gridCol w="2801880"/>
                <a:gridCol w="2341800"/>
              </a:tblGrid>
              <a:tr h="450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а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еини </a:t>
                      </a:r>
                      <a:r>
                        <a:rPr b="0" lang="sr-Latn-C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g/l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 замућењ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м од цигарете” </a:t>
                      </a:r>
                      <a:r>
                        <a:rPr b="0" lang="sr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(+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-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зирно заму</a:t>
                      </a: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ћ</a:t>
                      </a: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ње :</a:t>
                      </a:r>
                      <a:r>
                        <a:rPr b="0" lang="sr-Latn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5-0,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учење без преципитације (виде се тамне линије на белој подлози) </a:t>
                      </a:r>
                      <a:r>
                        <a:rPr b="0" lang="sr-Latn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: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-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учење са преципитација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+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-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раст т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6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++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Box 3"/>
          <p:cNvSpPr/>
          <p:nvPr/>
        </p:nvSpPr>
        <p:spPr>
          <a:xfrm>
            <a:off x="755640" y="5300640"/>
            <a:ext cx="7929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3 капи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20% </a:t>
            </a: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сулфосалицилне киселине у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Arial"/>
              </a:rPr>
              <a:t> 5 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Семиквантитативна мет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Интензитет замућења урина показује величину протеинур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Georgia"/>
                <a:ea typeface="Arial"/>
              </a:rPr>
              <a:t>За разлику од тест трака открива и нискомолекуларну (тубулску) протеинур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Сулфосалицилна кисел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7"/>
          <p:cNvSpPr/>
          <p:nvPr/>
        </p:nvSpPr>
        <p:spPr>
          <a:xfrm>
            <a:off x="4429080" y="1785960"/>
            <a:ext cx="471492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Georgia"/>
                <a:ea typeface="Arial"/>
              </a:rPr>
              <a:t>Лажно  +   нал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Georgia"/>
                <a:ea typeface="Arial"/>
              </a:rPr>
              <a:t>код употреб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цефалоспор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и.в. контрасна средства </a:t>
            </a:r>
            <a:r>
              <a:rPr b="0" lang="sr-Latn-CS" sz="2000" spc="-1" strike="noStrike">
                <a:solidFill>
                  <a:srgbClr val="000000"/>
                </a:solidFill>
                <a:latin typeface="Georgia"/>
                <a:ea typeface="Arial"/>
              </a:rPr>
              <a:t>(24 h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концентрован у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фосф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пеницил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  <a:ea typeface="Arial"/>
              </a:rPr>
              <a:t>сулфонами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Лажно  -   нала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спец тежина урина&lt;1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1"/>
          <p:cNvSpPr/>
          <p:nvPr/>
        </p:nvSpPr>
        <p:spPr>
          <a:xfrm>
            <a:off x="5867280" y="1890720"/>
            <a:ext cx="357480" cy="382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1"/>
          <p:cNvSpPr/>
          <p:nvPr/>
        </p:nvSpPr>
        <p:spPr>
          <a:xfrm>
            <a:off x="5727600" y="5638680"/>
            <a:ext cx="357120" cy="38268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6840" y="1268280"/>
            <a:ext cx="8201160" cy="48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У 24-часовној колекцији урина вредности изнад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150mg/dan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треба сматрати п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толошки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Код млађе деце, где се тешко сакупља урин, користи се однос протеини/креатинин у 1 узорку урин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(mg/mg) &lt;0,2 означава нормалну екскрецију проте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0,2-0,5 минимална протеину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0,5-2  умерена протеину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4600" indent="-2646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&gt;2 нефротска протеинуриј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000000"/>
                </a:solidFill>
                <a:latin typeface="Arial"/>
              </a:rPr>
              <a:t>КЛАСИФИКАЦИЈА ПРОТЕИНУРИЈ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) НЕПАТОЛОШКА ПРO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Б) ПАТОЛОШКА ПРO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300" spc="-1" strike="noStrike">
                <a:solidFill>
                  <a:srgbClr val="000000"/>
                </a:solidFill>
                <a:latin typeface="Arial"/>
              </a:rPr>
              <a:t>НЕПАТОЛОШКА 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6840" y="1603440"/>
            <a:ext cx="821844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Она није резултат болест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не прелази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1g/24h или 2+ на тест траци; транзиторна је или интермитентна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Постурална (ортосtаtска)-tесt зa орtосtatску протеинурију -налаз нормaлне екскреције протеина у лeжeћeм (&lt;4mg/m2/h) и повећане екскреције у усправном положај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Протеинурија у току фебрилности-код температуре&gt;38,3</a:t>
            </a:r>
            <a:r>
              <a:rPr b="0" lang="sl-SI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Протеинурија код физичких вежби или напора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АТОЛОШКА 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6840" y="1267920"/>
            <a:ext cx="82011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Гломерулска протеинурија је резултат болести бубрег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креће се у распону 1g-30g/l; перзистентна је и праћена знацима основне боле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ефротски синдром (Идиопатски, конгенитални, инфантил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Гломерулонефритис  (Постинфекцијски; SLE; примарни-МП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Хронични пијелонефр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ЕМА МЕСТУ НАСТА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НАЛ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гломерул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омерул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а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ундра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РЕНАЛ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АТОЛОШКА 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Тубулска протеинурија је резултат смањене реапсорпције и губитка протеина мале молекулске масе урином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не прелази 1g/24h; перзистентна је и праћена је знацима дисфункције проксималног тубула (гликозурија, фосфатурија, губитак бикарбоната и аминоацидурија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Наследне болести (Цистиноза, Sy. Lowe; Wilsonова болест; Галактоземиј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59200" indent="-2592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Стечене болести (ТИН, Акутна тубулска некроза; Тровање тешким металима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Diagram 2" descr=""/>
          <p:cNvPicPr/>
          <p:nvPr/>
        </p:nvPicPr>
        <p:blipFill>
          <a:blip r:embed="rId1"/>
          <a:stretch/>
        </p:blipFill>
        <p:spPr>
          <a:xfrm>
            <a:off x="-6480" y="1195560"/>
            <a:ext cx="9156960" cy="54673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3"/>
          <p:cNvSpPr/>
          <p:nvPr/>
        </p:nvSpPr>
        <p:spPr>
          <a:xfrm>
            <a:off x="7236000" y="2643120"/>
            <a:ext cx="1728720" cy="3988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Хередит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7429680" y="3357720"/>
            <a:ext cx="1428480" cy="3988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теч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9"/>
          <p:cNvSpPr/>
          <p:nvPr/>
        </p:nvSpPr>
        <p:spPr>
          <a:xfrm>
            <a:off x="7143840" y="3214800"/>
            <a:ext cx="85716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1"/>
          <p:cNvSpPr/>
          <p:nvPr/>
        </p:nvSpPr>
        <p:spPr>
          <a:xfrm flipV="1">
            <a:off x="8001000" y="3000240"/>
            <a:ext cx="1440" cy="214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traight Connector 13"/>
          <p:cNvSpPr/>
          <p:nvPr/>
        </p:nvSpPr>
        <p:spPr>
          <a:xfrm flipH="1">
            <a:off x="8001000" y="3214800"/>
            <a:ext cx="1440" cy="1429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14"/>
          <p:cNvSpPr/>
          <p:nvPr/>
        </p:nvSpPr>
        <p:spPr>
          <a:xfrm>
            <a:off x="7429680" y="4071960"/>
            <a:ext cx="1428480" cy="3988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Прим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5"/>
          <p:cNvSpPr/>
          <p:nvPr/>
        </p:nvSpPr>
        <p:spPr>
          <a:xfrm>
            <a:off x="7308720" y="4786200"/>
            <a:ext cx="1656000" cy="398880"/>
          </a:xfrm>
          <a:prstGeom prst="rect">
            <a:avLst/>
          </a:prstGeom>
          <a:noFill/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екундар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6"/>
          <p:cNvSpPr/>
          <p:nvPr/>
        </p:nvSpPr>
        <p:spPr>
          <a:xfrm>
            <a:off x="7143840" y="4643280"/>
            <a:ext cx="857160" cy="180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25"/>
          <p:cNvSpPr/>
          <p:nvPr/>
        </p:nvSpPr>
        <p:spPr>
          <a:xfrm>
            <a:off x="8001000" y="4500720"/>
            <a:ext cx="0" cy="287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ight Brace 12"/>
          <p:cNvSpPr/>
          <p:nvPr/>
        </p:nvSpPr>
        <p:spPr>
          <a:xfrm>
            <a:off x="1714680" y="3071880"/>
            <a:ext cx="214200" cy="1714320"/>
          </a:xfrm>
          <a:custGeom>
            <a:avLst/>
            <a:gdLst>
              <a:gd name="textAreaLeft" fmla="*/ 0 w 214200"/>
              <a:gd name="textAreaRight" fmla="*/ 77400 w 214200"/>
              <a:gd name="textAreaTop" fmla="*/ 5400 h 1714320"/>
              <a:gd name="textAreaBottom" fmla="*/ 170892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16200" y="10800"/>
                  <a:pt x="21600" y="10800"/>
                </a:cubicBezTo>
                <a:cubicBezTo>
                  <a:pt x="162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7"/>
          <p:cNvSpPr/>
          <p:nvPr/>
        </p:nvSpPr>
        <p:spPr>
          <a:xfrm>
            <a:off x="0" y="357192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Неортостат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Функционална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Болеснике треба контролисати на 6-12 месец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физикални преглед и мерење крвног притис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рутински преглед ур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клиренс креатини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7288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одређивање укупне протеинурије у 24-часовном ури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ПРОТЕИНУРИЈА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6840" y="1603440"/>
            <a:ext cx="820116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Индикације за биопсију бубрег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ерзистентна асимптоматска протеинур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&gt;1g/24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блага протеинурија која се компликује хематуријом,хипертензијом, сниженим комплементом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3); смањеном функцијом бубрега или серолошким доказима системске болести вез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протеинурија и хипоалбуминемија у узрасту &lt;1 или &gt;8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г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300" spc="-1" strike="noStrike">
                <a:solidFill>
                  <a:srgbClr val="000000"/>
                </a:solidFill>
                <a:latin typeface="Arial"/>
              </a:rPr>
              <a:t>ТЕРАПИЈА ПРОТЕИНУРИЈЕ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6840" y="1603080"/>
            <a:ext cx="820116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Антипротеинурични лекови умањују негативне ефекте протеинурије и успоравају прогресију болести ка бубрежној инсуфицијенциј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АЦЕ инхибитори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антагонисти рецептора ангиотензина II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нестероидни антиинфламаторни леко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актеријске: узрок микрохематурије код 50% деце је И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ирусне: адено вируси тип 11 и 21 дају хеморагијске цист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РОЛИТИЈАЗА И ХИПЕРКАЛЦИ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Х или РМХ или м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изурија са стерилним уринокулту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бол у трбух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.С. нема хиперкалцем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ГЕНИТАЛНЕ АНОМАЛ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дронефр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лицистични бубре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Wilmsov 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ИЗИЧКИ НАПОР-МХ која траје 48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највероватније гломерул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КОВИ- циклофосфамид изазива хемијски цист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АТОЛОШКИ УЗРО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суство 75% неизмењених еритроцита (биконкавни) на фазном микроскопу говори у прилог негломерулске хематурије (не треба биопсиј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Присуство еритроцитних цилиндара је увек патолошки налаз који указује на гломерулску хематур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МАРНЕ ГЛОМЕРУЛОПАТ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курентне макрохематур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g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лпортов синд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диопатска хематуриј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)AP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)MP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)M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)RPGN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8:28:32Z</dcterms:created>
  <dc:creator>vvinfo</dc:creator>
  <dc:description/>
  <dc:language>en-US</dc:language>
  <cp:lastModifiedBy>User</cp:lastModifiedBy>
  <dcterms:modified xsi:type="dcterms:W3CDTF">2016-10-25T12:57:51Z</dcterms:modified>
  <cp:revision>40</cp:revision>
  <dc:subject/>
  <dc:title>Slide 1</dc:title>
</cp:coreProperties>
</file>