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027C-AAC6-4439-8121-08FE7A76A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29DF-7041-4041-8425-D94854BF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49E1-B36B-49F7-9CDB-30D115318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D40A-E076-4DEA-944D-6E31D566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A2D8-E991-4F07-A03B-DB419C13E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26FC-5D1F-4E2D-8FAF-A87C9D7D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94FE-402A-45D3-BE64-35D537A2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C6F2-075E-44AE-BB86-92A73F4B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DDE8-193A-4B8B-A7F6-8B1FA904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D0EE-A340-49D1-A706-5BBBF62B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00D4-DF1C-41D9-92EC-0BA8C73E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3393-F03A-45C8-8579-A71149FC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3DE0-7524-4283-B5B5-BE083A9F4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822400"/>
            <a:ext cx="8424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Хронична бубрежна инсуфицијен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56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898989"/>
                </a:solidFill>
                <a:latin typeface="Calibri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3724200" y="333360"/>
            <a:ext cx="1695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имптоми и знаци поремећаја регулаторне и екскреторне функције бубрег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1) поремећај волумена воде и електролитног балан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2) поремећаји ацидо-базне равнотеж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3) ретенце азотних и других метаболи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4) поремећаји у регулацији крвног притиска и стварања еритроци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ремијски токсини су са хормонским поремећајем, електролитним дисбалансом и ацидозом одговорни за метаболичке поремећаје и поремећаје у раду многих орган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Поремећај метаболизма масти (повишени TG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LDL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VLDL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 УХ (интолеранција угљенихидрата, хиперинсулинизам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нижена способност концентрисања ур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ремећај метаболизма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a, P и ренална остеодистрофија (коштани деформитети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д пада ГФ испод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25 ml/min/ 1,73 m²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спољава с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астој у расту (ендокринолошки поремећај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наци протеинске малнутриције (губитак мишићне масе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спорен и неправилан психомоторни развој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ериферна неуропатија са оштећењем сензорних и моторних функција и повећана неуромускуларна раздражљивост  праћена грчевима и конвулзија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жа сува, сиво-жуте боје, појачан свра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деми, тахипноа, диспнеја (хиперволемија, ацидоза, Н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7168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терминалној фази јавља се нормоцитна, нормохромна анемија због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1) смањеног стварања еритропоетина услед губитка функционалног паренхи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2) успорене еритропоезе услед неосетљивости еритроидне лозе на еритропоетин у присуству уремијских токси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3) хемолизе изазване уремијским токсини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4) крварења због смањенја броја тромбоцита и оштећења функциј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терминалној фази  јавља с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ртеријска хипертензија (80-90%) са знацима циркулаторне конгестије, едемом плућа, кардиомегалијом и галопним ритм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етинопат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ремећај све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овраћање, дијареја,  мелен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ОЂЕЊЕ И ЛЕЧЕЊЕ БОЛЕСНИКА СА ХБ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600200"/>
          <a:ext cx="8229600" cy="4678200"/>
        </p:xfrm>
        <a:graphic>
          <a:graphicData uri="http://schemas.openxmlformats.org/drawingml/2006/table">
            <a:tbl>
              <a:tblPr/>
              <a:tblGrid>
                <a:gridCol w="2243160"/>
                <a:gridCol w="2879640"/>
                <a:gridCol w="3106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мањена фун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cr&gt; 50ml/min/1,73m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дговарајући дијететски режим (»нормалан живот«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ронична Б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r  50-20/min/1,73m²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чење остеодистрофије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нтрола ацидобазног и електролитног баланс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емиј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r  20-10/min/1,73m²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ијетотерапиј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нзивно конзерватиивно лечење (хипекалемија, хипертензија, ацидоза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54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минална БИ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lang="sr-Latn-CS" sz="19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r&lt; 10/min/1,73m²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езбедити приступ крвним судовима за хемодијализу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нсплантација или хемодијализа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ГИЈЕНСКО-ДИЈЕТЕТСКИ  РЕЖИ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Омогућава нормалан раст и развој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Штеди преостале нефроне од брзог пропадањ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стадијуму прогресије ХБИ унос протеина за децу до 12 година је 100%, а за старију 80% потреба здравог детет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терминалном стадијуму, ако се лече хемодијализама унос протеина се повећава за 10-20%, а ако се лече перитонеумском дијализом за 30-50%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15-20% укупне дневне количине може бити у виду есенцијалних аминокиселина или њихових кетоаналог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НОС ВО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егулисан је осећајем жеђи болесника до терминалног стадијум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стадијуму терминалне БИ, када болесник улази у олигуричну фазу,  ограничава се на 300-500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ml/m²/24h (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ерспирација)  + губитак урином и столиц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нос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Na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е не ограничава до терминалног стадијума изузев ако болесник има хипертензију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(1-2mmol/kg/24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НОС КАЛИЈУ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путити болесника да избегава храну богату калијум (суво воће, поморанџе, парадајз, ораси, чоколада, кока-кола) када клиренс креатинина падне испод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20ml/min/1,73m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Смоле јонски-измењивачи ( у ГИТ-у измењују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N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случајевима тешке хиперкалемије лeчeњe јe као у АБ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ВЕНЦИЈА И ЛЕЧЕЊЕ РЕНАЛНЕ ОСТЕОДИСТРОФИЈЕ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Превенција РОД започиње када је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cr</a:t>
            </a:r>
            <a:r>
              <a:rPr b="0" lang="sr-CS" sz="2600" spc="-1" strike="noStrike">
                <a:solidFill>
                  <a:srgbClr val="000000"/>
                </a:solidFill>
                <a:latin typeface="Tahoma"/>
                <a:ea typeface="Tahoma"/>
              </a:rPr>
              <a:t>&lt;60мл/мин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Вит.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D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3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(4-8000IJ/24h)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или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1,25 (OH)2 D3 (0,12-0,50mg/24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CaCO3 (300-500 mg/24h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Стриктна контрола уноса фосфора храном (контрoла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Ca, P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и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PTH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серума и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1-2x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годишње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Rtg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костију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Терапиј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R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ahoma"/>
                <a:ea typeface="Tahoma"/>
              </a:rPr>
              <a:t>Већe дозe </a:t>
            </a:r>
            <a:r>
              <a:rPr b="0" lang="sr-Latn-CS" sz="2400" spc="-1" strike="noStrike">
                <a:solidFill>
                  <a:srgbClr val="000000"/>
                </a:solidFill>
                <a:latin typeface="Tahoma"/>
                <a:ea typeface="Tahoma"/>
              </a:rPr>
              <a:t>1,25 (OH)2 D3 i CaCO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042560" y="1773000"/>
            <a:ext cx="720108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ронична бубрежна инсуфицијенција (ХБИ) је стање које настаје због прогресивног, иреверзибилног оштећења бубрега, одражава се поремећајем у раду низа органа, а сами бубрези нису у могућности да одрже запремину и састав течности у норма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ЧЕЊЕ АЦИДОЗ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рекција се врши према гасним анализама само до нивоа бикарбобата у серуму од 1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8mmol/l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да се не би погоршала хипертензиј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1-3 mmol/kg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бикарбона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ко се испољи манифестна хипокалцемична тетанија у комбинацији са ацидозом потребно је претходно кориговати хипокалцемиј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ЧЕЊЕ АНЕМ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Лечити сидеропенију препаратима гвожђ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Хумани рекомбинантни еритропоетин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25-75 J/ kg TT    1-3x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едељно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sc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i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дијализираних болесника се дају препарати  фолне киселин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1-5mg/kg TT/24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ЧЕЊЕ ХИПЕРТЕНЗИЈЕ И СРЧАНЕ ИНСУФИЦИЈЕН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ртеријска хипертензија као последица хиперволемије се лечи диуретицима и ултрафилтрацијом у току дијализ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У хиперволемијским стањима за брзу контролу су корисни калцијум-блокатори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нифедипин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Хиперренинска хипертензија се лечи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CE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нхибиторима 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алаприл</a:t>
            </a:r>
            <a:r>
              <a:rPr b="0" lang="sr-Latn-CS" sz="26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и бета-блокатори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Ретко рефрактарна, малигна хипертензија у уремичне деце захтева нефректомиј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Ако су потребни кардиотоници дозу треба редуковати према резидуалној функцији бубрег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ЧЕЊЕ ИНФЕК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Енергично лечи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Лекове који се излучују исклучиво путем бубрега потребно је давати у дозама које се смањују паралелно са смањењем функције бубрега (цефалоспорин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Нефротоксичне лекове треба избегавати или давати у одговарајуће умањеним дозама (аминогликозиди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РОНИЧНА БУБРЕЖНА ИНСУФИЦИЈЕНЦИЈА КОД ДЕ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ХБИ  се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е дефинисати и као сва клиничка стања  код којих су концентрације креатинина у серуму повећане изнад 2 SD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односу на нормалне вредности за пол и узрас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центрација плазма-креатинина (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Barratt i Chantler 1973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63080" cy="4829040"/>
        </p:xfrm>
        <a:graphic>
          <a:graphicData uri="http://schemas.openxmlformats.org/drawingml/2006/table">
            <a:tbl>
              <a:tblPr/>
              <a:tblGrid>
                <a:gridCol w="2743200"/>
                <a:gridCol w="277668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     </a:t>
                      </a: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зра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редња вредност 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µmol/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       </a:t>
                      </a: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аспон</a:t>
                      </a:r>
                      <a:r>
                        <a:rPr b="1" lang="sr-Latn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(± 2 S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в пупчан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-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-2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eљ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-26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eљ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-52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eљ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-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-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-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-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год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-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растао мушкара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-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расла ж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-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ТИОЛОГИЈ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инфективне (хронични пијелонефритис) или iнфламаторне болести (GN)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2) аномалије бубрега и уротракта (опструктивне уропатије )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3) наследни бубрежни поремећаји 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4) болести везивног ткива (SLE, HUS, HSP) 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5) метаболички поремећаји (шећерна болест, амилоидоза)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6) токсичне нефропатије</a:t>
            </a:r>
            <a:br>
              <a:rPr sz="2700"/>
            </a:br>
            <a:r>
              <a:rPr b="0" lang="sr-CS" sz="2700" spc="-1" strike="noStrike">
                <a:solidFill>
                  <a:srgbClr val="000000"/>
                </a:solidFill>
                <a:latin typeface="Calibri"/>
              </a:rPr>
              <a:t>7) хипертензивне васкуларне болeсти (нeфросклeроза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ТИОЛОГИЈ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д гломерулских обољења (25,8%) најчешћи узрок ХБИ су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1. стероид резистентни нефротски синдром са фокалном гломерулском склерозо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2. мембрано пролиферативни гломерулонефритис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IgA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нефропатиј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3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Хронични пијелонефритис (24,6%) у деце представља учесталост примарног и секундарног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VUR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-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Најчешћа хередитарна обољења (15,6%)  која доводе до ХБИ су: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1. јувенилна нефронофтиз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2. цистиноз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3. цистичне болести бубрег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lport-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ов нефритис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зроци ХБИ у болесника лечених хемодијализама </a:t>
            </a: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1980- 1990. год.  на УДК у Београд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829040"/>
        </p:xfrm>
        <a:graphic>
          <a:graphicData uri="http://schemas.openxmlformats.org/drawingml/2006/table">
            <a:tbl>
              <a:tblPr/>
              <a:tblGrid>
                <a:gridCol w="3106800"/>
                <a:gridCol w="2379600"/>
                <a:gridCol w="27432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оле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рој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ЕФЛУКСНА НЕФРОПАТ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ОМЕРУЛСКЕ БОЛЕ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ЈУВЕНИЛНА НЕФРОНОФТИ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ОВАЊЕ ГЉИВА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ПОПЛАЗИЈА/ДИСПЛАЗ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ЛКУЛ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САЛ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PORT-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В СИНД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 WIL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СТИН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ПОЗНАТЕ ЕТИОЛОГ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ТИОЛОГИЈ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Конгенитална обољења бубрега и уринарног тракта раније изазивају ХБИ, већ у првим годинама живота, док хередитарне и стечене болести бубрега  касније доводе до ХБИ, обично између 5 и 15 год. живо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ЛИНИЧКА СЛИКА Х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во стање пролази кроз 4 фаз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 фаза: повећана бубрежна функционална резерва; ГФ(гломеруларна филтрација) снижена на 30-50ml/min/1,73 m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I фаза: смањенa екскреторнa функцијa бубрeгa сa raзвојeм aзотeмијe;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ГФ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je 15-30ml/min /1,73 m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II фаза: полисистемски функционални поремећаји, ГФ је око 10ml/min /1,73 m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V фаза: терминални стадијум, ГФ испод 10ml/min /1,73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m²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0:14:30Z</dcterms:created>
  <dc:creator>vvinfo</dc:creator>
  <dc:description/>
  <dc:language>en-US</dc:language>
  <cp:lastModifiedBy>User</cp:lastModifiedBy>
  <dcterms:modified xsi:type="dcterms:W3CDTF">2014-08-12T13:19:12Z</dcterms:modified>
  <cp:revision>64</cp:revision>
  <dc:subject/>
  <dc:title>Slide 1</dc:title>
</cp:coreProperties>
</file>