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DBE-2A30-446F-BCB5-8D372888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689E-50E1-4AC8-A72D-81C4DA9DF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294-507D-4EC1-A454-72317BCAD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220-CEFE-4A13-BC59-361508D2C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0350-4A21-4E0D-B138-AE0ADD0D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D9AF-9C79-4834-8202-8668D8C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F83-F6D2-4853-8B33-04B028AD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2C65-0415-4F0B-ACCF-B42AA4BE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E49B-89F0-486F-B55B-455CF370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8FA8-4A8F-4D34-83D6-582FD38A4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13D-943A-4AAD-B9FB-022FEAAA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C784-915E-486F-9814-5BA61D3EC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4D8F-3E95-47D7-B3D5-0993B41A2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590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Везикоуретерални рефлукс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и </a:t>
            </a:r>
            <a:br>
              <a:rPr sz="3600"/>
            </a:b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041800"/>
            <a:ext cx="64008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3657600" y="189000"/>
            <a:ext cx="1695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vur-3"/>
          <p:cNvPicPr/>
          <p:nvPr/>
        </p:nvPicPr>
        <p:blipFill>
          <a:blip r:embed="rId1"/>
          <a:stretch/>
        </p:blipFill>
        <p:spPr>
          <a:xfrm>
            <a:off x="6015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vur-4"/>
          <p:cNvPicPr/>
          <p:nvPr/>
        </p:nvPicPr>
        <p:blipFill>
          <a:blip r:embed="rId2"/>
          <a:stretch/>
        </p:blipFill>
        <p:spPr>
          <a:xfrm>
            <a:off x="3290760" y="620640"/>
            <a:ext cx="247968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vur-5"/>
          <p:cNvPicPr/>
          <p:nvPr/>
        </p:nvPicPr>
        <p:blipFill>
          <a:blip r:embed="rId3"/>
          <a:stretch/>
        </p:blipFill>
        <p:spPr>
          <a:xfrm>
            <a:off x="6012000" y="620640"/>
            <a:ext cx="2455560" cy="3065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468360" y="4437000"/>
            <a:ext cx="8136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I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         </a:t>
            </a: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IV степeн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        V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лага дилатација        Умерена дилатација уретера,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  Д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тaциј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уретера и карлице              зарављене чаш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50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је асимптоматска аномалија, а клинички се открива у око 85% случајева преко уринарне инфекције, ређе у одмаклом стадијуму преко компликација као што су хипертензија и хронична бубрежна инсуфицијенц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, поготову ако је I, II и III степена има тенденцију да се изгуби и ово се дешава у више од 50% случајева, нарочито у млађем узраст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лоност ка ожиљавању је, међутим, највећа у првим годинама живота, тј. код одојче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казано је да се  ожиљавање дешава само у првих 5-7 год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440" y="8380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лесници са благим степеном ожиљавања, поготову ако немају протеинурију (или не већу од 500 mg/24h), са  нормалним с. креатинином, обично у каснијем животу немају компликациј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вестан број болесника са вишим степеном ожиљавања, односно редукције бубрежног паренхима, има болест прогредијентног тока за коју је прихваћен назив </a:t>
            </a: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рефлуксна нефропатиј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ефлуксна нефропатиј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) је хронична прогредијентна болест коју карактерише ожиљавање бубрега, а настаје као последица ВУР-а и удружених фак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жиљавање бубрега и редукција бубрежног паренхима се дијагностикује помоћу IVP или/и DMSA сцинтиграф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е на IVP-у које су карактеристичне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РН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 још 1960. год. описао J. Hodsо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не се састоје од: деформација чашица, различитог степена ожиљавања паренхима (обично изнад деформисаних чашица) и смањења величине бубре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нас је прихваћено да се степен ожиљавања бубрега дефинише по класификацији J. Smell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Механизам настанка ожиљавањ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 односно редукције бубрежног паренхима у присуству ВУР-а данас се тумачи на неколико начин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ање интрареналног рефлукс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ринарна инфекциј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Arial"/>
              </a:rPr>
              <a:t>постојање конгениталне дисплазије бубрег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вентуално повишен ретроградни притисак- “чекић” (ово последње важи само за болеснике са опструкцијом и неурогеном дисфункцијом мокраћне бешик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ПРИРОДАН ТОК БОЛЕСТИ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Р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 u="sng">
                <a:solidFill>
                  <a:srgbClr val="000000"/>
                </a:solidFill>
                <a:uFillTx/>
                <a:latin typeface="Arial"/>
              </a:rPr>
              <a:t>3 фазе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1.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чиње  у  одојчета и малог детета. Долази до  иреверзибилног  оштећења паренхим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 бити асимптоматска. Хипертензија и протеинурија нису запаже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Најчешће  се болесници јављају са израженом хипертензијом  или  бубрежном исуфицијенциј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I и II степена, и највећи број III   степена треба лечити  конзервативн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УР   В  степена- хирушки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ВУР-а  III  и IV  до сада  завршене студије не показују   значајне разлике у начину лечења. У  последње време  користи се «стинг»  процедура, тј убризгавање тефлона у везикоуретерелно ушће, чиме се спречава рефликсирање ури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вен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лаговремено лечење уро-инфекција у одојчади и мале деце, при првој инфекциј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 повишеној температури која нема видљиви узрок (пре давања антибиотика) прегледати УРИН и УРИНОКУЛТУР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ле лечења доказане инфекције  урадити потребна испитивањ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д  деце из породица  са ризиком саветује се Ехо бубрег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ВУ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је термин који означава ретроградно враћање урина из мокраћне бешике у урете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ВУР-а у дечијој популацији није сасвим прецизно установљ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честалост појаве уринарних инфекција у деце до 11 година  је 3% за девојчице, а 1% за дечаке.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У 30-50% ових болесника  се налази ВУ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80773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општој популацији деце се процењује на 0,4 до 1,8%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азирано на епидемиолошким студијама, при истраживању ИУТ у око 2,2% девојчица и 0,6% дечака нађе се ВУ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валенца ВУР-а у деце са ИУТ износи око 31%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Класифика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148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може бити примаран и секунда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Прим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настаје најчешће због урођене аномалије везикоуретералног споја, која га чини функционално инсуфицијентни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УР има тенденцију да се са узрастом детета губи, јер за то време интравезикални део уретера повећава своју дужин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3059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Секундарни ВУР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се јавља често удружен са ектопичним уретерима или дупликацијама уретера. Такође се јавља када постоји анатомска или функционална опструкција уринарног тока дивертикулом, уретероцелом и валвулом задње урет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себно треба указати на појаву ВУР-а у болесника са неурогеном дисфункцијом мокраћне бешик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зависности од тога у којој мери приликом </a:t>
            </a:r>
            <a:r>
              <a:rPr b="0" lang="sr-Latn-CS" sz="3000" spc="-1" strike="noStrike">
                <a:solidFill>
                  <a:srgbClr val="000000"/>
                </a:solidFill>
                <a:latin typeface="Arial"/>
              </a:rPr>
              <a:t>MUCG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аст испуњава уретер и пелвикаликсни систем, као и од величине дилатације овог система ВУР се конвенционално градира у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последње време је највише прихваћена класификација Комитета интернационалне студије ВУР-а на пет степен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ВЕЗИКОУРЕТЕРАЛНИ РЕЛУК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vur-nl"/>
          <p:cNvPicPr/>
          <p:nvPr/>
        </p:nvPicPr>
        <p:blipFill>
          <a:blip r:embed="rId1"/>
          <a:stretch/>
        </p:blipFill>
        <p:spPr>
          <a:xfrm>
            <a:off x="611280" y="1413000"/>
            <a:ext cx="236700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vur-1"/>
          <p:cNvPicPr/>
          <p:nvPr/>
        </p:nvPicPr>
        <p:blipFill>
          <a:blip r:embed="rId2"/>
          <a:stretch/>
        </p:blipFill>
        <p:spPr>
          <a:xfrm>
            <a:off x="3348000" y="1413000"/>
            <a:ext cx="2363760" cy="2950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vur-2"/>
          <p:cNvPicPr/>
          <p:nvPr/>
        </p:nvPicPr>
        <p:blipFill>
          <a:blip r:embed="rId3"/>
          <a:stretch/>
        </p:blipFill>
        <p:spPr>
          <a:xfrm>
            <a:off x="6184800" y="1413000"/>
            <a:ext cx="2422800" cy="3024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324000" y="4941720"/>
            <a:ext cx="82803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Нормала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бубрег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,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 степeн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II степe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Garamond"/>
              </a:rPr>
              <a:t>уретер и мокраћна беш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Garamond"/>
              </a:rPr>
              <a:t>http://www.pedisurg.com/PtEduc/Vesicoureteral_Reflux.h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3T00:17:13Z</dcterms:created>
  <dc:creator>Katja</dc:creator>
  <dc:description/>
  <dc:language>en-US</dc:language>
  <cp:lastModifiedBy>User</cp:lastModifiedBy>
  <dcterms:modified xsi:type="dcterms:W3CDTF">2014-08-12T13:41:19Z</dcterms:modified>
  <cp:revision>43</cp:revision>
  <dc:subject/>
  <dc:title>No Slide Title</dc:title>
</cp:coreProperties>
</file>