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2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4E16-6679-4F8C-A61E-8D93B024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BED-97AE-4C70-A4FB-5133DECC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A761-FC47-4534-8040-94EF2A4C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CC8A-BB75-4221-BE57-0907233C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D9E0-9624-4156-AE15-35355D25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52206-5566-49DA-B03E-12DE8673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3B95-0F01-4D89-B9C2-758247EC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C8625-570C-46D4-A7F6-B23E8B9F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2B6F-5D70-43BA-AB45-CF668CBB7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56FE8-7FD3-416C-89C8-6BD65DD7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CCDB9-D8D4-4259-9FB3-DE2B4593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5597-F40E-4AD4-BF2A-F651194B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BD67-40A8-44E6-8A8C-0ABCA7E8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165EC-E3FF-4AB2-9657-EB5D29015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90EB0-0BCC-42A9-9974-58816F42A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0A82-51D7-4D6A-AC3C-509A0259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956A-92D8-4944-B365-6478A5B5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EB49-AD34-4D89-A30B-EBD18AC3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1B41-20F3-48BA-9A60-D5605E8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5947-46F8-45D5-8CAF-347D1AD1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D503-D620-4401-9F23-B1286B30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8FDB-5C78-49F4-8148-08020F846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03F8-7CF1-471B-AFA2-889D1FA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9D38-0537-4736-BFD2-D4A6B6D6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0B24-2D96-4470-BCD3-544C935D2D2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6F47-F295-4E4A-95DF-146ABADD9B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НФЕКЦИЈЕ УРИНАРНОГ ТРАКТА У ДЕ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27280" y="5181120"/>
            <a:ext cx="56404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898989"/>
                </a:solidFill>
                <a:latin typeface="Calibri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УТ се налази код око 5 % деце узраста до 2 год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2,7-4,1%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а фебрилношћу непознате етиолог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мперат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&gt;39°C),а 2-3 пута чешће код женске дец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око 17% девојчица беле рас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ацијентима мл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им од 2 годин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8-10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ма бактеријем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изик од појаве симптоматске ИУТ до 11. године живота постоји код 3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војчица са “пиком” у 4. годи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 код 1,1%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ечака са највећом инциденцом у 1. години жив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мулативни ризик од појаве ИУТ , према подацима из Шведке, износи 2,2% код дечака и 2,1% код девојчица узраста до 2 го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ични резултати добијени су у Енглеској где је симптоматска ИУТ евидентирана код 2,8% дечака и 8,3% девојчица узраста до 7 годин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код 3,6% и 11,3% испитаника до 16 година старост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ко 60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-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 %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деце са фебрилном ИУТ има АПН дефинисан присуством абнормалности у реналном кортексу на DM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ETIOLOGIJ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већини случајева ове инфекције изазива сопствена цревна флора пацијент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чешћи узрочник из ове групе је E.coli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ja se izoluje u случајu прве нeкомplиkovane ИУТ koд 75% novoroђenčadi i 80 - 90% deцe prepuбerтetskoг uзrasta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осталим грам-негативним цревним бактеријам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K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bsi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се среће у новорођеначком узрасту (11%), а Proteus код млађих дечака (30%). Proteus и псеудомонас су чешћи у нозокомијалним инфекцијама и код пацијената са течким аномалијама доњег дела уринарног тракта;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еђу грам-позитивним бактеријама најчешћи су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treptococcus grupe D (ентерокок) i Staphylococcus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оагулаза негативне стафилококе (S. epidermidis и S. saprophiticus) су једно време биле појам за контаминацију са коже. Са широм употребом супрапубичне аспирације урина постало је јасно да ови организми могу бити патогени за уринарни трaк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.epidermidis и S.saprophiticus узрок су ИУТ код 30% девојчица у пубертету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во се, као и пораст инциденце ИУТ у касном пубертету повезује са сексуалном активношћ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ФИНИЦИЈ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 појмом инфекције уринарног тракта (ИУТ) подразумевају се сва стања која карактерише присуство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сигнифакнтног броја бактерија у урину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то без обзира на локализацију инфекције у уринарном тракту ( од асимптоматске бактериурије до акутног пијелонефритис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ј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јим сопствена цревна флора пацијента продире у уринарни тракт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је асцедентан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ј. кроз уретру из претходно колонизоване периуретралне регије код дево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а и субпрепуцијалног џепа код 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од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е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и инциденца ИУТ 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циркумцизијом. Ризик од ИУТ за нециркумцизирану 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у новор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д у првој годин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вота је 4,1% 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е смањити на 0.2% применом неонаталне циркумцизије (Gonzales, 1996.). 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тим питање рутинске неонаталне циркумцизије остаје контроверзно (Poland, 1990; Schoen, 1990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је доспевају до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пособности адхеренције за уроепител, као и по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анког слоја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и на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слузо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. Максималан раст бактерије пос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на температури урина 37</a:t>
            </a:r>
            <a:r>
              <a:rPr b="0" lang="en-GB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, када је pH 6-7 и осмолалност 300-1200 mOsm/kg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ласку бактерија се супротстављају турбулентни ток урина, природни испир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акт мокрења и а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бактеријски одбрамбени механизми урина,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бубрег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Хематоген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је знатн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 пут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уласка бактерија у уринарни тракт. ИУТ у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м периоду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стати овим путе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Грам-негативна септикемија са E.coli развија се у време колонизације црева овим микроорганизмом због незрелости цревног зида и неадекватних имунол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ких одбрамбених механизама. Имуноглобулини м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ог млека имају 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титну улогу па ј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бактеријемија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 код деце која нису на природној исхран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АТОГЕНЕЗ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мањег броја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структуралних абнормалности-CACU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0% ВУР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lt;5%опструктивне уропат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од већине дец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У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→ резултат интерреакције изм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фактора вируленције бактерија и одбрамбених механизама домаћи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↔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инфламаторн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атогенеза ИУТ није потпуно раз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на, али је на основу бројних кли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 микроб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х ист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за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 д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о појаве болести долази када се поремети равно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 изм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ђ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фактора вируленције бактерија и одбрамбених механизама дом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енерално, уропатогене микробне културе обухватају клонове E. coli који се јављају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у уринарном тракту пацијената са ИУТ. Поред способности доброг раста и брзог ум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вања у урину, ове бактерије поседују по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ске факторе који предиспонирају ИУТ (Roberts, 1996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Сви фактори вируленције су продукт бактеријског геном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тако да захваљ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стим мутацијама гена ове бактерије могу мењати фенотипску експресију протеинских и непротеинских антигена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 ј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вирулентнији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Број бактерија који се сматра сигнификантним зависи од методе прикупљања урина и он према Кассу износи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10</a:t>
            </a:r>
            <a:r>
              <a:rPr b="0" lang="sr-Latn-CS" sz="2800" spc="-1" strike="noStrike" u="sng" baseline="30000">
                <a:solidFill>
                  <a:srgbClr val="000000"/>
                </a:solidFill>
                <a:uFillTx/>
                <a:latin typeface="Calibri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или више бактерија у 1ml урина, који је добијен из средњег млаза у току мик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10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ли више бактерија у 1ml урина узетог катетеризацијом или било који број добијен културом урина узетог супрапубичном пункцијом мокраћне бешик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О антиген - антиген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- састављен из липидне и полисахаридне компоненте. Липид А се ослоб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 при лизи бактерије и делуј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као ендотоксин смањује уретералну перисталтику.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 је активатор инфламаторне реакције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а и активатор комплемента класи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ним путем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Полисахаридна компонента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је индивидуални О-серотип. Серотипови који су нај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одговорни за ИУТ су: 0, 1, 2, 4, 6, 7, 18, 25, 50 и 78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К антиген - капсуларни антиген - је полисахарид који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нхибирају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и фагоцитозу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лак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р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вљавање бактерија у уринарном тракту, као и њихово продирање у бубрег,  тј настанак акутног пијелонефритиса. К антигени тако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ометају бактерицидно дејство серума посредовано комплементом,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то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омогу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ава перзистирање бактерија у тки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H антиген - флагеларни антиген - поседују неки сојеви E.coli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то их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ини покрет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Фимбрије или пили су продукт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лијског зида који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могу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ва адхеренцију бактерија на повр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у слузоко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то је најзн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јниј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инилац у настанку бактериур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. Посредством адхезина-протеинских  структура на врху пила, E.coli се специф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везује за гликолипидне или гликопротеинске рецепторе уроепите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Главна улог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 патогенези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љавањ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аренхима бубрега изазивањем респираторног праска приписује се организмима који имају тип I фимбрија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E.coli, носилац маноза-сензитивних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фимбриј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ијања за Tamm Horsfall-ов протеин - слузави слој на уротелу кој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ити уринарни тракт од микроорганиза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собе са крвном групом P имају на епителни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лијама мок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и уретера рецeпторе за P фимбрије (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ј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TL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цептор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) -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о омогу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в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адхеренцију бактериј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астанак акутног пијелонефритиса у нормaлном уринaрном трaкт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во везивање доводи, у даљем току ИУТ, до интеракције са фагоцитима - изазива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респираторни прасак тј. дегранулацију полиморфнонуклеарних леукоцита (pmn) са ослоб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њем ензима и ток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х радикала кисеоника у околно ткиво. Ова интеракција се одигравa посредством цитоки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ll-like рецептори“ (TLR) препознају PAMP→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емокини (IL-8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роинфламаторни цитокин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L-1, IL-6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билизација имуних ћелија и деструкција патогених организам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основи мог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икроорганизама да се испоље као патогени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бити модификована д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овим одбрамбеним механизмима. Ове механизме грубо делимо н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анатомс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функционалне 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- имун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анатомски нормалном уринарном тракту, уз регуларно п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њење 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ке и слободну дре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урина, при сваком акту мокрења долази до ефикасне елиминације урина и бактерија. На целуларном нивоу бактерије нападају Пмн-и, об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их антитела и лизира их комплемент. Свако стање које нар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ва ове нормалне одбрамбене механизме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ни особу в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склоном инфекција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Висок степе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уретер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ог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реф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с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ВУР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може повећати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 и он се среће код о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33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е са АП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нгениталне аномал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кључу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с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поплаз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бстр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овећавају ризик 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ВУ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елонефрити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843120" y="1447920"/>
          <a:ext cx="7386480" cy="4653000"/>
        </p:xfrm>
        <a:graphic>
          <a:graphicData uri="http://schemas.openxmlformats.org/drawingml/2006/table">
            <a:tbl>
              <a:tblPr/>
              <a:tblGrid>
                <a:gridCol w="2462040"/>
                <a:gridCol w="2608200"/>
                <a:gridCol w="2316240"/>
              </a:tblGrid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чин колекције урин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гнификантан број бактер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роватноћа инфекције (%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прапубична аспир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ло који бро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териз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-5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њи мла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-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деце мускулатура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се релаксира као одговор на пуњење док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а не буде пуна: 20 - 50ml код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и до 500 и 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мл код одраслих. При акту мокрења спонтане контракције детрусор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су релаксацијом спољ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јег сфинктер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д нормалне особе остаје мање од 20ml резидуалног урина после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њ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складу са тим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фекција 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да настане само ако довољно бактеријa остaне у резидуалном урин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Дисинергија сфинктер-детрусор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оводи до високог питиска п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њења и трајног пост-притиска 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ц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м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 изазвати бубр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но 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њ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ак и у одсуству инфекциј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Roberts, 1996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Сметње у функционисању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 могу бити узроковане озбиљним обољењима, као у с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у неурогене б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ке, или мањим функционалним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има од којих су неки повезани са психосоцијалним стресом или 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и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 навикама (ретко мокрење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.coli изолована из урина показује п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ану тенденцију да ин витро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адхерира за периуретралн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, вагиналне, као и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лије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букалне слузо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оних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alibri"/>
              </a:rPr>
              <a:t>ена које су склоне рекурентној бактериурији.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Ово указује на мог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 утицај генетских фактора, при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му фактор који доприноси овој склоности м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е бити присуство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1 крвне групе (Shaefferet al, 1981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нтерлеукин (IL)-8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XCR1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о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ACE инсе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/дел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ACE I/D) г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к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о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umor necrosis factor-[al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] по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орфизам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г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енетски фактори дома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ћ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ји представљају предиспозицију за ренално ожиљавање. Они су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идентификовани као потенцијални медијатори за фиброзу ткива и последично ствара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њ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е ожиљка у току АПН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.[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]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жина инфламације није 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само нивоима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1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већ и њиховом функционалном способношћу (одр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ена варијацијама у примарној структури гена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Taq I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+3953 C/T полиморфизам) у гену за IL1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Полиморфизам -174 G/C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у гену за IL 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Деца са рекурентним ИУТ 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имају смањену уринарну секрецију IgA у 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у са здравом децом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је показано да и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и деца са понављаним ИУТ немају антигене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ог типа крвне групе у изл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винама као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о су слуз и салива (тзв. нон-секретори). Претпоставља се да њихово присуство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да у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на пријањање уропатоген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рганизми који узрокују узлазну ИУТ настањују црева, тако да особе са уринарном инфекцијом морају имати рецепторе у цреву за ове бактерије (Flieder et al, 1986; Uehling, 1994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 уринарног тракта (ИУТ), после респираторних инфекција, најчешће су бактеријске инфекције у детињств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KLINIČKA SLIKA I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и симптоми уринарне инфекције зависе од узраста, пола, локализације ИУТ, присуства анатомских абнормалности и претходних инфекциј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Код новорођенчади, одојчади и мале деце типични локализујући симптоми су обично одсут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чешће клиничке манифестације ИУТ у новорођеначком узрасту подразумевају: ненапредовање (“failure to thrive”), губитак у тежини, одбијање оброка, дистензију трбуха, летаргију, узнемиреност, цијанозу, жутицу, пролив и повишену телесну температур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узрасту одојчета и малог детета до 2.године и даље је тешко локализовати ИУТ јер су симптоми некарактеристич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д уринарних симптома могу се наћи промењен изглед, боја и/или мирис урина, плач при микцији и учестало мокрењ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зв. локализујући симптоми могу бити последица баланитиса (вулвовагинитиса) и локалне перинеалне иритаци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то треба искључити физикалним прегледом детета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дизуричних тегоба код девојчица у преадолесцентном период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а ирит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а концентарција урина (дехидрац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зроци локалне иритациј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пуни и детерџен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калије у храни, пићу и леков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улвовагин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перкалци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ко деца постају старија ИУТ се чешће испољава симптомима који се односе на уринарни тракт док су системске манифестације лакше и ређе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Дизурија, учестало мокрење, енуреза и супрапубични бол указују на акутни циститис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ако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 се јавља акутна ретенција или инконтиненција ури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утни пијелонефритис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(АПН) се манифестује високом температуром понекад праћеном грозницом, лумбалним болом и осетљивошћу лумбалних лож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бдоминалним болом и повраћањем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ЈАГНОЗА (АП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вишена температура &gt; 38.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 уз системске поремећаје и лумбалну осетљивост као објективни зн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 &gt; 35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P &gt; 25 mg/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леукоцитурија и леукоцитни цилинд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мањена осмоларност, тј. специфична тежина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Jodal U., 1987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рокалцитонин (PCT) прецизан маркер у дијагнози акутног пијелонефритиса (Smolkin i sar., 2002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ензитивност 94,1% и специфичност  89,7%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већ после 2-3х од инфекције, максималан ниво достиже после 12-24h, а по одстрањењу инфективног стимулуса рапидно пада на нормалу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Инциденција и преваленција ИУТ у детињству нису тачно познате јер она често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остаје непрепозната због неспецифичности симпто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или се погрешно дијагностикује као обољење других систем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ензитивност  100%, али екстремно ниска специфичност од само 18,5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CT боље корелира са појавом реналних ожиљака нег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CR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Кортикална (статичка) сцинтиграфија 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(DMSA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итивност 90%, специфичност 95%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(Majd i sar., 199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ДАЉЕ ЗЛАТНИ СТАНДАРД!!!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иво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6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L-8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у серуму и урину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елирају 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бубрежним оштећењем код одојчади и дец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ТУ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а високом сензитив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81-88%)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прихватљив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пецифичнош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78-83%).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ви марке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мају исти значај у новорођеначком узрас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има ма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с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зитив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50%)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у детекцији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м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ф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алн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бнор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ост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 у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мби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R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нивоом већим 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70 mg/L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 указати на ренално ожиљавaњ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ower Doppler ултрасоногр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фи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у били у корелацији с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ала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од АП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ена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трасоногр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орис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јагноз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уроли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ја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ро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роурете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уретероцел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 дистензије беши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андардне биохемијске ана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Прокалцитонин (PCT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до 0,5ng/ml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1β (IL1β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нтерлеукин-6 (IL6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адиолошка испитива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лтразвук уротракта (унутар 3-5 дана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CUG унутар месец да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ртикална DMSA сцинтиграфија унутар 10 дана од инфекције и после 6 месец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Генетске анали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лиморфизми у генима за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1β (TaqI)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L6 (-174G/C) 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E (I/D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ЕРАПИЈА ИУ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ајважњи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циљ л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њ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деце са ИУТ је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да се спреч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прогресивно ош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т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ећње бубрег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оје може довести до хипертензије, компликација у трудноћи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ерминалне ХБ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ронични пијелонефритис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ефлуксна нефропатија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стаје један од главних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узрока терминалне бубрежне инсуфицијенције у детињств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Calibri"/>
              </a:rPr>
              <a:t>Учесталост ИУТ највећа је у првој години живо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Експериментално је доказано да је настанак и обим ожиљавања бубрега сразмеран времену трајања инфекције до пошетка лечења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Почетак терапије после 3 дана од настанка инфекције не спречава стварање ожиљних промена паренхи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линичка испитивања су показала да је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ризи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од настајања ожиљака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највећи у првој години живота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а да нови ожиљци ређе настају после седме годин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Приликом избора лек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и 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а његове апликације и код од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вања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е и места (хоспитално или амбулантно)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треба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ети у обзир узраст детета, те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ж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ину клини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е слике и присуство структурних или функционалних абнормалности уринарног тракт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Хоспитализација је неопход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ко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орођ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ади и одојч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≤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фебрил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дој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ади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Arial"/>
              </a:rPr>
              <a:t>≥ 3 месе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и мал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до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годин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тарије 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це 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клиничк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ом слик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АП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Н и/или клинички компликованом ИУ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деце са аномалијама уринарног тракт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соко фебрилно(рецт.Т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 i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линички болесно (интоксицирано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ерзистентно повра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мерено до тешк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лоша сарадња у лечењ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екомпликована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фебрилно(рецт.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≥38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C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ли не изгледа болес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може да узима течност и лековe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  <a:ea typeface="Arial"/>
              </a:rPr>
              <a:t>per 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о хидрирано или благо дехидрир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предвиђа се добра сарадњ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рапију је најбоље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зап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ч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ети одмах после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физикалног прегледа болесника и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узимања узорка урина за бактериоло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Calibri"/>
              </a:rPr>
              <a:t>ш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alibri"/>
              </a:rPr>
              <a:t>ки преглед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. Код т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 болесне деце у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ј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д н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ка се да дете мокри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се узорак урина узима супрапу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ом аспирацијом под контролом ултразвук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деце која нису фебрилна, а имају симтоме и знаке инфекције доњег дела уротракта, терапија се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годити до добијања резултата 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ог прегледа урина, не д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од 48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п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е мере у терапији обухватају с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пов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е телесне температуре, оралну или парентералну рехидрацију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ока (крв, плазма, слани физ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раствори),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фебрилних конвулзија и других порем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ај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терапији АПН-а разликују се две фаз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1. иницијална, до идентификације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и антибиогр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2. друга фаза, по добијању из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таја о сензитивности уз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ника на антимикробне леков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новорођеначком периоду ИУТ су од 2,3 - 8 пута чешће код мушке дец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 узрасту од 2 до 6 месеци такође постоји предоминација мушког пола, док су у сваком каснијем периоду ИУТ чешће код женске дец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е се проводи парентералном применом лекова у трајању 3-5 дана, а затим, у зависности од стања болесника, наставља пероралном применом изабраног лека. Н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ћ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терапија примењује 7-1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д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еки аутори се за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у за истовремену примену 2 лека, бар у узрасту до 18 месеци. Иницијална “битерапија” се об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но састоји од аминогликозида (по правилу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Гентамицина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) и једног од сле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ћ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их лекова: Ампицилин-а, Амоксицилин-а (са или без клавулонске киселине), цефалоспорина и триметоприм-сулфометоксазола (TMP/SMX) (Bensman, 1991.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 моделу експериментално изазваног АПН код пацова, показано је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патохистолошки) да примена кетопофена или метилпреднизолона уз антбиотску терапију (цефтриаxон) смањује појаву ожиљака (Турс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кође је, клиничком студијом код деце са АПН (путем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MS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лаз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врђено да се увођењем вит.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и вит.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 у терапију превенира бубрежно ожиљавање (Ир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DA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 скоро одобрила </a:t>
            </a:r>
            <a:r>
              <a:rPr b="0" lang="sr-CS" sz="3200" spc="-1" strike="noStrike" u="sng">
                <a:solidFill>
                  <a:srgbClr val="000000"/>
                </a:solidFill>
                <a:uFillTx/>
                <a:latin typeface="Calibri"/>
              </a:rPr>
              <a:t>примену ципрофлоксацина за лечење комликоване ИТУ и пијелонефритиса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код деце, мада он није лек првог избора у педијатрији због утицаја на коштано-зглобни систем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рентерална терапија ИТУ код де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6800" y="1219320"/>
          <a:ext cx="7386480" cy="51498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лин: 100-200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(макс.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: 5-7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 једној дози или 7,5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 подељено у 3 до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еп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14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6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отаx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N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≤28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a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00-15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: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200mg/kg/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: 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-2g 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н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6-8h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триакс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Одојчад/деца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5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2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е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1-2g za 24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ипрофлокасц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≥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год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:10-20mg/k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/na 12h/ (</a:t>
                      </a: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макс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1,5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ан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долесцeнт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: 200-400mg/</a:t>
                      </a: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дози</a:t>
                      </a:r>
                      <a:r>
                        <a:rPr b="0" lang="sr-Latn-C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a 12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ницијална монотерапија 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ж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 се спроводити сваким од напред наведених леков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УТ новор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а се 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по принципима за терапију сепс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За оралну терапију су погодни цефалоспорини,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моксицилин/клавулонска киселина,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котримоксазол,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нитрофурантоин, налидиксинска и пипемидинска кисели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Бактериол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и и рутински преглед урина в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ш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се 48-72 h од п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тка терапије, затим 2-3 дана по њеном прекиду и поново 2-3 недељe касниј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апију треба избегавати код деце без симптома, јер је ерадикација узрочника асимптоматске батериурије који су ниске вириуленције, често праћена појавом симптомске инфекције или АПН са много вирулентнијим сојевима бактер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У овом најранијем животном добу ИУТ се најчешће клинички манифестују у виду акутног пијелонефритиса (АПН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осле изл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ња АПН-а треба да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антибактеријску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профилаксу све док се испитивањима не искљ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и ВУР или опструктивна уропатиј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Jones &amp; Asscher, 1992.)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 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2 године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млађој од 5 година после прве компликoван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тале индикације за профилакс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цидивима АПН                               (до 6 месеци од последње епизод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реналним ожиљком после ИУТ која немају ВУ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ВУР-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еца са рекурентном ИУТ по типу циститиса (више од 3/год)   4-6 месе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асимптоматском бактериуријом која је удружена са поремећајем актa мокрења (дисфункционално мокренј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Профила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ке дозе лекова не треба да п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ђ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у 30% терапијских доза, а дају се у једној 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ерњој дози. За профилаксу се користе: нитрофурантоин, TMP/SMX, налидиксинска и пипемидинска кисел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ампицилин, амоxицилин и ц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але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8543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ФИЛАКТИЧНЕ ДОЗЕ ЛЕКОВА ИТУ КОД ДЕ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14520" y="1447920"/>
          <a:ext cx="7386480" cy="5121000"/>
        </p:xfrm>
        <a:graphic>
          <a:graphicData uri="http://schemas.openxmlformats.org/drawingml/2006/table">
            <a:tbl>
              <a:tblPr/>
              <a:tblGrid>
                <a:gridCol w="3693960"/>
                <a:gridCol w="3692520"/>
              </a:tblGrid>
              <a:tr h="75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ОВ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MP-SM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mg 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 или 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mg/kg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x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дељно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TMP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трофуранто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п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mg/kg/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ксицил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лекси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mg/kg /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зи /д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и која имају честе инфекције под профилаксом може да користи “двострука” профилакса са котримоксазолом и нитрофурантои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ца са компликованим аномалијама уротракта којима су потребне интермитентне катетеризације, често имају и асимптоматску бактериурију и симптоматску ИТ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ва деца треба да се лече у терцијарним установама!!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Диференцијална дијагноз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ендиц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ктерием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awasacki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-јева боле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ролитијаз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токол испитривања после прве И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133720" y="1143000"/>
            <a:ext cx="312408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ва доказана ИУ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З прегле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t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У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сумња на калкулоз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152280" y="30481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lt; 2 годи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212920" y="2438280"/>
            <a:ext cx="2133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ормалан нала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7010280" y="2438280"/>
            <a:ext cx="1905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Ненормал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AutoShape 10"/>
          <p:cNvCxnSpPr>
            <a:stCxn id="278" idx="2"/>
            <a:endCxn id="281" idx="0"/>
          </p:cNvCxnSpPr>
          <p:nvPr/>
        </p:nvCxnSpPr>
        <p:spPr>
          <a:xfrm flipH="1" rot="16200000">
            <a:off x="5676120" y="152280"/>
            <a:ext cx="305280" cy="426780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83" name="AutoShape 11"/>
          <p:cNvCxnSpPr>
            <a:stCxn id="278" idx="2"/>
            <a:endCxn id="280" idx="0"/>
          </p:cNvCxnSpPr>
          <p:nvPr/>
        </p:nvCxnSpPr>
        <p:spPr>
          <a:xfrm rot="5400000">
            <a:off x="3334680" y="2077920"/>
            <a:ext cx="305280" cy="416880"/>
          </a:xfrm>
          <a:prstGeom prst="bentConnector3">
            <a:avLst>
              <a:gd name="adj1" fmla="val 4994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84" name="Rectangle 17"/>
          <p:cNvSpPr/>
          <p:nvPr/>
        </p:nvSpPr>
        <p:spPr>
          <a:xfrm>
            <a:off x="2286000" y="30481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2 -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8"/>
          <p:cNvSpPr/>
          <p:nvPr/>
        </p:nvSpPr>
        <p:spPr>
          <a:xfrm>
            <a:off x="4437000" y="3048120"/>
            <a:ext cx="190836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&gt; 5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9"/>
          <p:cNvSpPr/>
          <p:nvPr/>
        </p:nvSpPr>
        <p:spPr>
          <a:xfrm>
            <a:off x="6894360" y="3048120"/>
            <a:ext cx="2133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(м)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n CG (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руга испитива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AutoShape 20"/>
          <p:cNvCxnSpPr>
            <a:stCxn id="281" idx="2"/>
            <a:endCxn id="286" idx="0"/>
          </p:cNvCxnSpPr>
          <p:nvPr/>
        </p:nvCxnSpPr>
        <p:spPr>
          <a:xfrm flipH="1">
            <a:off x="7961040" y="2742840"/>
            <a:ext cx="216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88" name="Rectangle 21"/>
          <p:cNvSpPr/>
          <p:nvPr/>
        </p:nvSpPr>
        <p:spPr>
          <a:xfrm>
            <a:off x="160200" y="4149720"/>
            <a:ext cx="198144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C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2276640" y="4149720"/>
            <a:ext cx="1981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3"/>
          <p:cNvSpPr/>
          <p:nvPr/>
        </p:nvSpPr>
        <p:spPr>
          <a:xfrm>
            <a:off x="4437000" y="4149720"/>
            <a:ext cx="18907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АР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1" name="AutoShape 24"/>
          <p:cNvCxnSpPr>
            <a:stCxn id="280" idx="2"/>
            <a:endCxn id="284" idx="0"/>
          </p:cNvCxnSpPr>
          <p:nvPr/>
        </p:nvCxnSpPr>
        <p:spPr>
          <a:xfrm flipH="1">
            <a:off x="3276360" y="2742840"/>
            <a:ext cx="360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2" name="AutoShape 25"/>
          <p:cNvCxnSpPr>
            <a:stCxn id="280" idx="2"/>
            <a:endCxn id="279" idx="0"/>
          </p:cNvCxnSpPr>
          <p:nvPr/>
        </p:nvCxnSpPr>
        <p:spPr>
          <a:xfrm rot="5400000">
            <a:off x="2058120" y="1827360"/>
            <a:ext cx="305640" cy="2136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3" name="AutoShape 26"/>
          <p:cNvCxnSpPr>
            <a:stCxn id="280" idx="2"/>
            <a:endCxn id="285" idx="0"/>
          </p:cNvCxnSpPr>
          <p:nvPr/>
        </p:nvCxnSpPr>
        <p:spPr>
          <a:xfrm flipH="1" rot="16200000">
            <a:off x="4181760" y="1839600"/>
            <a:ext cx="305640" cy="211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94" name="Rectangle 27"/>
          <p:cNvSpPr/>
          <p:nvPr/>
        </p:nvSpPr>
        <p:spPr>
          <a:xfrm>
            <a:off x="16200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цинтигра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8"/>
          <p:cNvSpPr/>
          <p:nvPr/>
        </p:nvSpPr>
        <p:spPr>
          <a:xfrm>
            <a:off x="227664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ушки пол,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APN,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ВУР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ожиљна нефропат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у породиц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9"/>
          <p:cNvSpPr/>
          <p:nvPr/>
        </p:nvSpPr>
        <p:spPr>
          <a:xfrm>
            <a:off x="4392720" y="5273640"/>
            <a:ext cx="1981080" cy="130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36000" bIns="10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MCUG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: ненорма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DMSA 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сцинтиграму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дисфункционал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мокрењ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AutoShape 30"/>
          <p:cNvCxnSpPr>
            <a:stCxn id="279" idx="2"/>
            <a:endCxn id="288" idx="0"/>
          </p:cNvCxnSpPr>
          <p:nvPr/>
        </p:nvCxnSpPr>
        <p:spPr>
          <a:xfrm>
            <a:off x="114300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8" name="AutoShape 31"/>
          <p:cNvCxnSpPr>
            <a:stCxn id="288" idx="2"/>
            <a:endCxn id="294" idx="0"/>
          </p:cNvCxnSpPr>
          <p:nvPr/>
        </p:nvCxnSpPr>
        <p:spPr>
          <a:xfrm>
            <a:off x="1150920" y="5064120"/>
            <a:ext cx="216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99" name="AutoShape 32"/>
          <p:cNvCxnSpPr>
            <a:stCxn id="284" idx="2"/>
            <a:endCxn id="289" idx="0"/>
          </p:cNvCxnSpPr>
          <p:nvPr/>
        </p:nvCxnSpPr>
        <p:spPr>
          <a:xfrm flipH="1">
            <a:off x="3266280" y="3962520"/>
            <a:ext cx="104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0" name="AutoShape 33"/>
          <p:cNvCxnSpPr>
            <a:stCxn id="289" idx="2"/>
            <a:endCxn id="295" idx="0"/>
          </p:cNvCxnSpPr>
          <p:nvPr/>
        </p:nvCxnSpPr>
        <p:spPr>
          <a:xfrm>
            <a:off x="326664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1" name="AutoShape 34"/>
          <p:cNvCxnSpPr>
            <a:stCxn id="285" idx="2"/>
            <a:endCxn id="290" idx="0"/>
          </p:cNvCxnSpPr>
          <p:nvPr/>
        </p:nvCxnSpPr>
        <p:spPr>
          <a:xfrm flipH="1">
            <a:off x="5382720" y="3962520"/>
            <a:ext cx="8640" cy="187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2" name="AutoShape 35"/>
          <p:cNvCxnSpPr>
            <a:stCxn id="290" idx="2"/>
            <a:endCxn id="296" idx="0"/>
          </p:cNvCxnSpPr>
          <p:nvPr/>
        </p:nvCxnSpPr>
        <p:spPr>
          <a:xfrm>
            <a:off x="5382720" y="5064120"/>
            <a:ext cx="1080" cy="21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09:26:33Z</dcterms:created>
  <dc:creator>Ana i Tamara</dc:creator>
  <dc:description/>
  <dc:language>en-US</dc:language>
  <cp:lastModifiedBy>User</cp:lastModifiedBy>
  <dcterms:modified xsi:type="dcterms:W3CDTF">2014-08-12T13:37:25Z</dcterms:modified>
  <cp:revision>25</cp:revision>
  <dc:subject/>
  <dc:title>Slide 1</dc:title>
</cp:coreProperties>
</file>